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3CB-D347-4439-8686-E8D77E5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F2E-4EB8-4D88-AE3C-E3E84E63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817-0695-4BD4-A670-2187F9AD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11C-5929-4D40-B057-8C335310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D90-2617-42DC-AED5-9A77F1A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A9B-90FA-4DD8-A070-BD923A1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704-99AE-401A-BDA0-2382319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4AA-D1E8-4745-B768-F4A0E7B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2B5-6D7A-40C5-ADB2-643FF562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B24-3EF0-4100-8C54-3E68162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40D-487E-4407-BCB9-C68C189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5E5-43BD-4A65-8E70-1FC2798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D7CD-F4DE-4303-B94F-589E1F980A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920" y="304920"/>
            <a:ext cx="2700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もっと遠くへ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1143000"/>
            <a:ext cx="8537400" cy="5504400"/>
            <a:chOff x="304920" y="1143000"/>
            <a:chExt cx="8537400" cy="5504400"/>
          </a:xfrm>
        </p:grpSpPr>
        <p:pic>
          <p:nvPicPr>
            <p:cNvPr id="43" name="vinus" descr=""/>
            <p:cNvPicPr/>
            <p:nvPr/>
          </p:nvPicPr>
          <p:blipFill>
            <a:blip r:embed="rId1"/>
            <a:stretch/>
          </p:blipFill>
          <p:spPr>
            <a:xfrm>
              <a:off x="1600200" y="1143000"/>
              <a:ext cx="111924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earth_moon" descr=""/>
            <p:cNvPicPr/>
            <p:nvPr/>
          </p:nvPicPr>
          <p:blipFill>
            <a:blip r:embed="rId2"/>
            <a:stretch/>
          </p:blipFill>
          <p:spPr>
            <a:xfrm>
              <a:off x="2819520" y="1143000"/>
              <a:ext cx="111924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mars" descr=""/>
            <p:cNvPicPr/>
            <p:nvPr/>
          </p:nvPicPr>
          <p:blipFill>
            <a:blip r:embed="rId3"/>
            <a:stretch/>
          </p:blipFill>
          <p:spPr>
            <a:xfrm>
              <a:off x="4114800" y="1219320"/>
              <a:ext cx="10573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mercurie" descr=""/>
            <p:cNvPicPr/>
            <p:nvPr/>
          </p:nvPicPr>
          <p:blipFill>
            <a:blip r:embed="rId4"/>
            <a:stretch/>
          </p:blipFill>
          <p:spPr>
            <a:xfrm>
              <a:off x="304920" y="1143000"/>
              <a:ext cx="114768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33520" y="21337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水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88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金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6708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火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jupiter" descr=""/>
            <p:cNvPicPr/>
            <p:nvPr/>
          </p:nvPicPr>
          <p:blipFill>
            <a:blip r:embed="rId5"/>
            <a:stretch/>
          </p:blipFill>
          <p:spPr>
            <a:xfrm>
              <a:off x="5334120" y="1219320"/>
              <a:ext cx="98244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saturn" descr=""/>
            <p:cNvPicPr/>
            <p:nvPr/>
          </p:nvPicPr>
          <p:blipFill>
            <a:blip r:embed="rId6"/>
            <a:stretch/>
          </p:blipFill>
          <p:spPr>
            <a:xfrm>
              <a:off x="6553080" y="1676520"/>
              <a:ext cx="1144800" cy="9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uranus" descr=""/>
            <p:cNvPicPr/>
            <p:nvPr/>
          </p:nvPicPr>
          <p:blipFill>
            <a:blip r:embed="rId7"/>
            <a:stretch/>
          </p:blipFill>
          <p:spPr>
            <a:xfrm>
              <a:off x="7086600" y="2895480"/>
              <a:ext cx="106524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neptune" descr=""/>
            <p:cNvPicPr/>
            <p:nvPr/>
          </p:nvPicPr>
          <p:blipFill>
            <a:blip r:embed="rId8"/>
            <a:stretch/>
          </p:blipFill>
          <p:spPr>
            <a:xfrm>
              <a:off x="7543800" y="4191120"/>
              <a:ext cx="10368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luto" descr=""/>
            <p:cNvPicPr/>
            <p:nvPr/>
          </p:nvPicPr>
          <p:blipFill>
            <a:blip r:embed="rId9"/>
            <a:stretch/>
          </p:blipFill>
          <p:spPr>
            <a:xfrm>
              <a:off x="7848720" y="5410080"/>
              <a:ext cx="99360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4864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木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土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920" y="38098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天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43800" y="5029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海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48720" y="6248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冥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24000" y="2515680"/>
            <a:ext cx="3352680" cy="1770840"/>
            <a:chOff x="1224000" y="2515680"/>
            <a:chExt cx="3352680" cy="1770840"/>
          </a:xfrm>
        </p:grpSpPr>
        <p:sp>
          <p:nvSpPr>
            <p:cNvPr id="62" name=""/>
            <p:cNvSpPr/>
            <p:nvPr/>
          </p:nvSpPr>
          <p:spPr>
            <a:xfrm flipV="1">
              <a:off x="1224000" y="2515680"/>
              <a:ext cx="1828800" cy="30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4000" y="27446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1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億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5000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万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6280" y="3506760"/>
              <a:ext cx="31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新幹線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0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76280" y="38876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光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6280" y="312588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人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28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336680" y="2833560"/>
            <a:ext cx="5867280" cy="3447000"/>
            <a:chOff x="1336680" y="2833560"/>
            <a:chExt cx="5867280" cy="3447000"/>
          </a:xfrm>
        </p:grpSpPr>
        <p:sp>
          <p:nvSpPr>
            <p:cNvPr id="68" name=""/>
            <p:cNvSpPr/>
            <p:nvPr/>
          </p:nvSpPr>
          <p:spPr>
            <a:xfrm flipV="1">
              <a:off x="1336680" y="2833560"/>
              <a:ext cx="5486400" cy="3200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8640" y="47386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14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億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3200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万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74960" y="550044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新幹線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0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545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74960" y="58816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光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74960" y="511956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人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800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51000" y="2604960"/>
            <a:ext cx="4952880" cy="3980160"/>
            <a:chOff x="351000" y="2604960"/>
            <a:chExt cx="4952880" cy="3980160"/>
          </a:xfrm>
        </p:grpSpPr>
        <p:grpSp>
          <p:nvGrpSpPr>
            <p:cNvPr id="74" name=""/>
            <p:cNvGrpSpPr/>
            <p:nvPr/>
          </p:nvGrpSpPr>
          <p:grpSpPr>
            <a:xfrm>
              <a:off x="351000" y="2604960"/>
              <a:ext cx="1828800" cy="3962160"/>
              <a:chOff x="351000" y="2604960"/>
              <a:chExt cx="1828800" cy="3962160"/>
            </a:xfrm>
          </p:grpSpPr>
          <p:sp>
            <p:nvSpPr>
              <p:cNvPr id="75" name=""/>
              <p:cNvSpPr/>
              <p:nvPr/>
            </p:nvSpPr>
            <p:spPr>
              <a:xfrm>
                <a:off x="351000" y="2604960"/>
                <a:ext cx="1066680" cy="3962160"/>
              </a:xfrm>
              <a:prstGeom prst="flowChartDelay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7320" y="4128840"/>
                <a:ext cx="83808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ff0000"/>
                    </a:solidFill>
                    <a:latin typeface="Times New Roman"/>
                  </a:rPr>
                  <a:t>太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7320" y="4662360"/>
                <a:ext cx="1752480" cy="78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直径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140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万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k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地球の約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108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341720" y="6186240"/>
              <a:ext cx="39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重さ： 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のあとに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が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個ならぶ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(k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W1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88200" cy="53802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3276720" y="380880"/>
            <a:ext cx="2590560" cy="612360"/>
            <a:chOff x="3276720" y="380880"/>
            <a:chExt cx="2590560" cy="612360"/>
          </a:xfrm>
        </p:grpSpPr>
        <p:sp>
          <p:nvSpPr>
            <p:cNvPr id="180" name=""/>
            <p:cNvSpPr/>
            <p:nvPr/>
          </p:nvSpPr>
          <p:spPr>
            <a:xfrm>
              <a:off x="3276720" y="5335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33ff"/>
                  </a:solidFill>
                  <a:latin typeface="Times New Roman"/>
                </a:rPr>
                <a:t>一角獣座ばら星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380880"/>
              <a:ext cx="25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9933ff"/>
                  </a:solidFill>
                  <a:latin typeface="Times New Roman"/>
                </a:rPr>
                <a:t>いっかくじゅう ざ                 せい 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M45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11880" cy="51465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3048120" y="152280"/>
            <a:ext cx="3352680" cy="612360"/>
            <a:chOff x="3048120" y="152280"/>
            <a:chExt cx="3352680" cy="612360"/>
          </a:xfrm>
        </p:grpSpPr>
        <p:sp>
          <p:nvSpPr>
            <p:cNvPr id="184" name=""/>
            <p:cNvSpPr/>
            <p:nvPr/>
          </p:nvSpPr>
          <p:spPr>
            <a:xfrm>
              <a:off x="3048120" y="3049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33ff"/>
                  </a:solidFill>
                  <a:latin typeface="Times New Roman"/>
                </a:rPr>
                <a:t>おうし座プレアデス星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1522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9933ff"/>
                  </a:solidFill>
                  <a:latin typeface="Times New Roman"/>
                </a:rPr>
                <a:t>ざ                                      せい だ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676520" y="6095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生まれたばかりの若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わ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い星のあつま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609480" y="990720"/>
            <a:ext cx="4114800" cy="4352760"/>
            <a:chOff x="609480" y="990720"/>
            <a:chExt cx="4114800" cy="4352760"/>
          </a:xfrm>
        </p:grpSpPr>
        <p:pic>
          <p:nvPicPr>
            <p:cNvPr id="188" name="m97bvr" descr=""/>
            <p:cNvPicPr/>
            <p:nvPr/>
          </p:nvPicPr>
          <p:blipFill>
            <a:blip r:embed="rId1"/>
            <a:srcRect l="6821" t="6530" r="7001" b="31958"/>
            <a:stretch/>
          </p:blipFill>
          <p:spPr>
            <a:xfrm>
              <a:off x="609480" y="1600200"/>
              <a:ext cx="4059360" cy="374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1295280" y="990720"/>
              <a:ext cx="3429000" cy="612000"/>
              <a:chOff x="1295280" y="990720"/>
              <a:chExt cx="3429000" cy="612000"/>
            </a:xfrm>
          </p:grpSpPr>
          <p:sp>
            <p:nvSpPr>
              <p:cNvPr id="190" name=""/>
              <p:cNvSpPr/>
              <p:nvPr/>
            </p:nvSpPr>
            <p:spPr>
              <a:xfrm>
                <a:off x="1295280" y="114300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9933ff"/>
                    </a:solidFill>
                    <a:latin typeface="Times New Roman"/>
                  </a:rPr>
                  <a:t>ふくろう星雲 </a:t>
                </a:r>
                <a:r>
                  <a:rPr b="1" lang="ja-JP" sz="2400" spc="-1" strike="noStrike">
                    <a:solidFill>
                      <a:srgbClr val="9933ff"/>
                    </a:solidFill>
                    <a:latin typeface="Times New Roman"/>
                  </a:rPr>
                  <a:t>(M9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86000" y="990720"/>
                <a:ext cx="91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9933ff"/>
                    </a:solidFill>
                    <a:latin typeface="Times New Roman"/>
                  </a:rPr>
                  <a:t>せい うん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486400" y="533520"/>
            <a:ext cx="2516040" cy="2825640"/>
            <a:chOff x="5486400" y="533520"/>
            <a:chExt cx="2516040" cy="2825640"/>
          </a:xfrm>
        </p:grpSpPr>
        <p:pic>
          <p:nvPicPr>
            <p:cNvPr id="193" name="m57bvr" descr=""/>
            <p:cNvPicPr/>
            <p:nvPr/>
          </p:nvPicPr>
          <p:blipFill>
            <a:blip r:embed="rId2"/>
            <a:srcRect l="27311" t="20960" r="29710" b="49002"/>
            <a:stretch/>
          </p:blipFill>
          <p:spPr>
            <a:xfrm>
              <a:off x="5486400" y="1067040"/>
              <a:ext cx="251604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486400" y="53352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33cc"/>
                  </a:solidFill>
                  <a:latin typeface="Times New Roman"/>
                </a:rPr>
                <a:t>こと座リング星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81480" y="3505320"/>
            <a:ext cx="3276720" cy="3093840"/>
            <a:chOff x="5181480" y="3505320"/>
            <a:chExt cx="3276720" cy="3093840"/>
          </a:xfrm>
        </p:grpSpPr>
        <p:pic>
          <p:nvPicPr>
            <p:cNvPr id="196" name="n7293bvr" descr=""/>
            <p:cNvPicPr/>
            <p:nvPr/>
          </p:nvPicPr>
          <p:blipFill>
            <a:blip r:embed="rId3"/>
            <a:srcRect l="3137" t="3312" r="3137" b="29529"/>
            <a:stretch/>
          </p:blipFill>
          <p:spPr>
            <a:xfrm>
              <a:off x="5410080" y="3962520"/>
              <a:ext cx="27464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81480" y="35053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ff"/>
                  </a:solidFill>
                  <a:latin typeface="Times New Roman"/>
                </a:rPr>
                <a:t>みずがめ座 </a:t>
              </a:r>
              <a:r>
                <a:rPr b="1" lang="ja-JP" sz="2400" spc="-1" strike="noStrike">
                  <a:solidFill>
                    <a:srgbClr val="ff00ff"/>
                  </a:solidFill>
                  <a:latin typeface="Times New Roman"/>
                </a:rPr>
                <a:t>NGC72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0880" y="304920"/>
            <a:ext cx="480060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惑星状星雲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わくせいじょうせいうん</a:t>
            </a:r>
            <a:r>
              <a:rPr b="1" lang="ja-JP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5562720"/>
            <a:ext cx="4724280" cy="612000"/>
            <a:chOff x="457200" y="5562720"/>
            <a:chExt cx="4724280" cy="612000"/>
          </a:xfrm>
        </p:grpSpPr>
        <p:sp>
          <p:nvSpPr>
            <p:cNvPr id="200" name=""/>
            <p:cNvSpPr/>
            <p:nvPr/>
          </p:nvSpPr>
          <p:spPr>
            <a:xfrm>
              <a:off x="457200" y="57150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太陽くらいの重さの星の最後の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562720"/>
              <a:ext cx="472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たい  よう                            おも               ほし         さい   ご        すが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048120" y="152280"/>
            <a:ext cx="3352680" cy="612360"/>
            <a:chOff x="3048120" y="152280"/>
            <a:chExt cx="3352680" cy="612360"/>
          </a:xfrm>
        </p:grpSpPr>
        <p:sp>
          <p:nvSpPr>
            <p:cNvPr id="203" name=""/>
            <p:cNvSpPr/>
            <p:nvPr/>
          </p:nvSpPr>
          <p:spPr>
            <a:xfrm>
              <a:off x="3048120" y="3049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33ff"/>
                  </a:solidFill>
                  <a:latin typeface="Times New Roman"/>
                </a:rPr>
                <a:t>おうし座かに星雲 </a:t>
              </a:r>
              <a:r>
                <a:rPr b="1" lang="ja-JP" sz="2400" spc="-1" strike="noStrike">
                  <a:solidFill>
                    <a:srgbClr val="9933ff"/>
                  </a:solidFill>
                  <a:latin typeface="ＭＳ Ｐゴシック"/>
                </a:rPr>
                <a:t>(M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1522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9933ff"/>
                  </a:solidFill>
                  <a:latin typeface="Times New Roman"/>
                </a:rPr>
                <a:t>ざ                 せい 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m1bvr" descr=""/>
          <p:cNvPicPr/>
          <p:nvPr/>
        </p:nvPicPr>
        <p:blipFill>
          <a:blip r:embed="rId1"/>
          <a:srcRect l="3888" t="3900" r="4181" b="32499"/>
          <a:stretch/>
        </p:blipFill>
        <p:spPr>
          <a:xfrm>
            <a:off x="1828800" y="762120"/>
            <a:ext cx="5410080" cy="49654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066680" y="5791320"/>
            <a:ext cx="6858000" cy="612000"/>
            <a:chOff x="1066680" y="5791320"/>
            <a:chExt cx="6858000" cy="612000"/>
          </a:xfrm>
        </p:grpSpPr>
        <p:sp>
          <p:nvSpPr>
            <p:cNvPr id="207" name=""/>
            <p:cNvSpPr/>
            <p:nvPr/>
          </p:nvSpPr>
          <p:spPr>
            <a:xfrm>
              <a:off x="1066680" y="594360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太陽の８倍より重い星のさいごの姿 </a:t>
              </a:r>
              <a:r>
                <a:rPr b="1" lang="ja-JP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超新星残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5791320"/>
              <a:ext cx="685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たい よう               ばい             おも         ほし                                   すがた          </a:t>
              </a:r>
              <a:r>
                <a:rPr b="1" lang="ja-JP" sz="1200" spc="-1" strike="noStrike">
                  <a:solidFill>
                    <a:srgbClr val="ff0000"/>
                  </a:solidFill>
                  <a:latin typeface="Times New Roman"/>
                </a:rPr>
                <a:t>ちょうしんせいざんが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048120" y="152280"/>
            <a:ext cx="3124080" cy="612360"/>
            <a:chOff x="3048120" y="152280"/>
            <a:chExt cx="3124080" cy="612360"/>
          </a:xfrm>
        </p:grpSpPr>
        <p:sp>
          <p:nvSpPr>
            <p:cNvPr id="210" name=""/>
            <p:cNvSpPr/>
            <p:nvPr/>
          </p:nvSpPr>
          <p:spPr>
            <a:xfrm>
              <a:off x="3048120" y="3049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33ff"/>
                  </a:solidFill>
                  <a:latin typeface="Times New Roman"/>
                </a:rPr>
                <a:t>はくちょう座網状星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152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9933ff"/>
                  </a:solidFill>
                  <a:latin typeface="Times New Roman"/>
                </a:rPr>
                <a:t>ざ   もうじょうせい 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mouj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7260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905120" y="3846600"/>
            <a:ext cx="6941880" cy="2549520"/>
            <a:chOff x="1905120" y="3846600"/>
            <a:chExt cx="6941880" cy="2549520"/>
          </a:xfrm>
        </p:grpSpPr>
        <p:pic>
          <p:nvPicPr>
            <p:cNvPr id="214" name="solar_gal_poster" descr=""/>
            <p:cNvPicPr/>
            <p:nvPr/>
          </p:nvPicPr>
          <p:blipFill>
            <a:blip r:embed="rId1"/>
            <a:stretch/>
          </p:blipFill>
          <p:spPr>
            <a:xfrm>
              <a:off x="1905120" y="3846600"/>
              <a:ext cx="6941880" cy="25495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215" name=""/>
            <p:cNvSpPr/>
            <p:nvPr/>
          </p:nvSpPr>
          <p:spPr>
            <a:xfrm>
              <a:off x="2057400" y="5599080"/>
              <a:ext cx="10666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Times New Roman"/>
                </a:rPr>
                <a:t>地球と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880" y="5827680"/>
              <a:ext cx="9144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Times New Roman"/>
                </a:rPr>
                <a:t>太陽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29400" y="5979960"/>
              <a:ext cx="9144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Times New Roman"/>
                </a:rPr>
                <a:t>銀河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milkyway_poster" descr=""/>
          <p:cNvPicPr/>
          <p:nvPr/>
        </p:nvPicPr>
        <p:blipFill>
          <a:blip r:embed="rId2"/>
          <a:stretch/>
        </p:blipFill>
        <p:spPr>
          <a:xfrm>
            <a:off x="457200" y="1407960"/>
            <a:ext cx="3286080" cy="21970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419720" y="4075200"/>
            <a:ext cx="2818800" cy="1599840"/>
            <a:chOff x="4419720" y="4075200"/>
            <a:chExt cx="2818800" cy="1599840"/>
          </a:xfrm>
        </p:grpSpPr>
        <p:sp>
          <p:nvSpPr>
            <p:cNvPr id="220" name=""/>
            <p:cNvSpPr/>
            <p:nvPr/>
          </p:nvSpPr>
          <p:spPr>
            <a:xfrm flipH="1" flipV="1">
              <a:off x="5943240" y="4532040"/>
              <a:ext cx="1295280" cy="114300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407520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9933"/>
                  </a:solidFill>
                  <a:latin typeface="Times New Roman"/>
                </a:rPr>
                <a:t>星の数多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29400" y="4303800"/>
            <a:ext cx="2286000" cy="1371600"/>
            <a:chOff x="6629400" y="4303800"/>
            <a:chExt cx="2286000" cy="1371600"/>
          </a:xfrm>
        </p:grpSpPr>
        <p:sp>
          <p:nvSpPr>
            <p:cNvPr id="223" name=""/>
            <p:cNvSpPr/>
            <p:nvPr/>
          </p:nvSpPr>
          <p:spPr>
            <a:xfrm flipV="1">
              <a:off x="7239240" y="4837320"/>
              <a:ext cx="685800" cy="8380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9400" y="43038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9933"/>
                  </a:solidFill>
                  <a:latin typeface="Times New Roman"/>
                </a:rPr>
                <a:t>星の数少な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H="1" flipV="1">
            <a:off x="2666520" y="3008160"/>
            <a:ext cx="2667240" cy="106704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24080" y="2093400"/>
            <a:ext cx="4648320" cy="221004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114800" y="874800"/>
            <a:ext cx="4724280" cy="749160"/>
            <a:chOff x="4114800" y="874800"/>
            <a:chExt cx="4724280" cy="749160"/>
          </a:xfrm>
        </p:grpSpPr>
        <p:sp>
          <p:nvSpPr>
            <p:cNvPr id="228" name=""/>
            <p:cNvSpPr/>
            <p:nvPr/>
          </p:nvSpPr>
          <p:spPr>
            <a:xfrm>
              <a:off x="4114800" y="110340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ja-JP" sz="2800" spc="-1" strike="noStrike">
                  <a:solidFill>
                    <a:srgbClr val="ff0000"/>
                  </a:solidFill>
                  <a:latin typeface="Times New Roman"/>
                </a:rPr>
                <a:t>天の川とは銀河系を中からみた姿なのだ</a:t>
              </a:r>
              <a:r>
                <a:rPr b="1" lang="ja-JP" sz="28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874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Times New Roman"/>
                </a:rPr>
                <a:t>ぎん     が   け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334120" y="2017800"/>
            <a:ext cx="2819160" cy="688320"/>
            <a:chOff x="5334120" y="2017800"/>
            <a:chExt cx="2819160" cy="688320"/>
          </a:xfrm>
        </p:grpSpPr>
        <p:sp>
          <p:nvSpPr>
            <p:cNvPr id="231" name=""/>
            <p:cNvSpPr/>
            <p:nvPr/>
          </p:nvSpPr>
          <p:spPr>
            <a:xfrm>
              <a:off x="5334120" y="22464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直径約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8000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光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4120" y="2017800"/>
              <a:ext cx="281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ちょっけいやく     まん                こう  ね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392200" y="304920"/>
            <a:ext cx="4073760" cy="459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そして銀河の果てへ向かっ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09680" y="304920"/>
            <a:ext cx="4953240" cy="45972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太陽２０００億個の集まり 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--- 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銀河 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480" y="990720"/>
            <a:ext cx="3429000" cy="5260320"/>
            <a:chOff x="609480" y="990720"/>
            <a:chExt cx="3429000" cy="5260320"/>
          </a:xfrm>
        </p:grpSpPr>
        <p:pic>
          <p:nvPicPr>
            <p:cNvPr id="236" name="M31" descr=""/>
            <p:cNvPicPr/>
            <p:nvPr/>
          </p:nvPicPr>
          <p:blipFill>
            <a:blip r:embed="rId1"/>
            <a:stretch/>
          </p:blipFill>
          <p:spPr>
            <a:xfrm>
              <a:off x="609480" y="990720"/>
              <a:ext cx="3400560" cy="47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62120" y="57913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アンドロメダ銀河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M3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343400" y="1371600"/>
            <a:ext cx="4114800" cy="4498200"/>
            <a:chOff x="4343400" y="1371600"/>
            <a:chExt cx="4114800" cy="4498200"/>
          </a:xfrm>
        </p:grpSpPr>
        <p:pic>
          <p:nvPicPr>
            <p:cNvPr id="239" name="m51bvi" descr=""/>
            <p:cNvPicPr/>
            <p:nvPr/>
          </p:nvPicPr>
          <p:blipFill>
            <a:blip r:embed="rId2"/>
            <a:srcRect l="3875" t="5611" r="6274" b="29259"/>
            <a:stretch/>
          </p:blipFill>
          <p:spPr>
            <a:xfrm>
              <a:off x="4419720" y="1371600"/>
              <a:ext cx="3944880" cy="39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343400" y="5410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りょうけん座 子づれ銀河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M5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4400" y="380880"/>
            <a:ext cx="3192480" cy="3052080"/>
            <a:chOff x="914400" y="380880"/>
            <a:chExt cx="3192480" cy="3052080"/>
          </a:xfrm>
        </p:grpSpPr>
        <p:pic>
          <p:nvPicPr>
            <p:cNvPr id="242" name="m81bvr" descr=""/>
            <p:cNvPicPr/>
            <p:nvPr/>
          </p:nvPicPr>
          <p:blipFill>
            <a:blip r:embed="rId1"/>
            <a:srcRect l="7012" t="3787" r="7012" b="31459"/>
            <a:stretch/>
          </p:blipFill>
          <p:spPr>
            <a:xfrm>
              <a:off x="914400" y="380880"/>
              <a:ext cx="319248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247920" y="297324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724280" y="304920"/>
            <a:ext cx="3367080" cy="3044880"/>
            <a:chOff x="4724280" y="304920"/>
            <a:chExt cx="3367080" cy="3044880"/>
          </a:xfrm>
        </p:grpSpPr>
        <p:pic>
          <p:nvPicPr>
            <p:cNvPr id="245" name="m106bvr" descr=""/>
            <p:cNvPicPr/>
            <p:nvPr/>
          </p:nvPicPr>
          <p:blipFill>
            <a:blip r:embed="rId2"/>
            <a:srcRect l="7012" t="7219" r="7012" b="28588"/>
            <a:stretch/>
          </p:blipFill>
          <p:spPr>
            <a:xfrm>
              <a:off x="4724280" y="304920"/>
              <a:ext cx="318924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986520" y="2852640"/>
              <a:ext cx="11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1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66680" y="3581280"/>
            <a:ext cx="2959200" cy="2940120"/>
            <a:chOff x="1066680" y="3581280"/>
            <a:chExt cx="2959200" cy="2940120"/>
          </a:xfrm>
        </p:grpSpPr>
        <p:pic>
          <p:nvPicPr>
            <p:cNvPr id="248" name="m87vri" descr=""/>
            <p:cNvPicPr/>
            <p:nvPr/>
          </p:nvPicPr>
          <p:blipFill>
            <a:blip r:embed="rId3"/>
            <a:srcRect l="14007" t="12332" r="14007" b="35489"/>
            <a:stretch/>
          </p:blipFill>
          <p:spPr>
            <a:xfrm>
              <a:off x="1066680" y="3581280"/>
              <a:ext cx="2934000" cy="29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193920" y="6046920"/>
              <a:ext cx="8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724280" y="3505320"/>
            <a:ext cx="3232440" cy="3044880"/>
            <a:chOff x="4724280" y="3505320"/>
            <a:chExt cx="3232440" cy="3044880"/>
          </a:xfrm>
        </p:grpSpPr>
        <p:pic>
          <p:nvPicPr>
            <p:cNvPr id="251" name="n4449bvr" descr=""/>
            <p:cNvPicPr/>
            <p:nvPr/>
          </p:nvPicPr>
          <p:blipFill>
            <a:blip r:embed="rId4"/>
            <a:srcRect l="7012" t="6209" r="7012" b="32427"/>
            <a:stretch/>
          </p:blipFill>
          <p:spPr>
            <a:xfrm>
              <a:off x="4724280" y="3505320"/>
              <a:ext cx="318924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413400" y="607212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GC44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506520" y="944640"/>
            <a:ext cx="2620800" cy="2361960"/>
            <a:chOff x="506520" y="944640"/>
            <a:chExt cx="2620800" cy="2361960"/>
          </a:xfrm>
        </p:grpSpPr>
        <p:pic>
          <p:nvPicPr>
            <p:cNvPr id="254" name="hcg92bvr" descr=""/>
            <p:cNvPicPr/>
            <p:nvPr/>
          </p:nvPicPr>
          <p:blipFill>
            <a:blip r:embed="rId1"/>
            <a:srcRect l="7012" t="8427" r="7012" b="30211"/>
            <a:stretch/>
          </p:blipFill>
          <p:spPr>
            <a:xfrm>
              <a:off x="506520" y="944640"/>
              <a:ext cx="25192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55560" y="2892240"/>
              <a:ext cx="24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00"/>
                  </a:solidFill>
                  <a:latin typeface="Times New Roman"/>
                </a:rPr>
                <a:t>ステファンの五つ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57200" y="3413160"/>
            <a:ext cx="3063960" cy="2888640"/>
            <a:chOff x="457200" y="3413160"/>
            <a:chExt cx="3063960" cy="2888640"/>
          </a:xfrm>
        </p:grpSpPr>
        <p:pic>
          <p:nvPicPr>
            <p:cNvPr id="257" name="hcg94vri" descr=""/>
            <p:cNvPicPr/>
            <p:nvPr/>
          </p:nvPicPr>
          <p:blipFill>
            <a:blip r:embed="rId2"/>
            <a:srcRect l="7751" t="2854" r="6274" b="30987"/>
            <a:stretch/>
          </p:blipFill>
          <p:spPr>
            <a:xfrm>
              <a:off x="457200" y="3413160"/>
              <a:ext cx="276696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116080" y="5842080"/>
              <a:ext cx="14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CG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29000" y="457200"/>
            <a:ext cx="5510160" cy="5842080"/>
            <a:chOff x="3429000" y="457200"/>
            <a:chExt cx="5510160" cy="5842080"/>
          </a:xfrm>
        </p:grpSpPr>
        <p:pic>
          <p:nvPicPr>
            <p:cNvPr id="260" name="abell2151bvr" descr=""/>
            <p:cNvPicPr/>
            <p:nvPr/>
          </p:nvPicPr>
          <p:blipFill>
            <a:blip r:embed="rId3"/>
            <a:srcRect l="0" t="0" r="7827" b="0"/>
            <a:stretch/>
          </p:blipFill>
          <p:spPr>
            <a:xfrm>
              <a:off x="3429000" y="457200"/>
              <a:ext cx="5337000" cy="58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910120" y="5827680"/>
              <a:ext cx="30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00"/>
                  </a:solidFill>
                  <a:latin typeface="Times New Roman"/>
                </a:rPr>
                <a:t>ヘラクレス座銀河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63680" y="260280"/>
            <a:ext cx="2660400" cy="459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銀河群・銀河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h01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51520" cy="2551320"/>
          </a:xfrm>
          <a:prstGeom prst="rect">
            <a:avLst/>
          </a:prstGeom>
          <a:ln w="0">
            <a:noFill/>
          </a:ln>
        </p:spPr>
      </p:pic>
      <p:pic>
        <p:nvPicPr>
          <p:cNvPr id="264" name="gh02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151160" cy="2551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09680" y="4419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黄色い点の一つ一つが銀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この宇宙の立体地図も完成したわけではなく、まだほんの一部が見えてきただけ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04920" y="914400"/>
            <a:ext cx="7619760" cy="688320"/>
            <a:chOff x="304920" y="914400"/>
            <a:chExt cx="7619760" cy="688320"/>
          </a:xfrm>
        </p:grpSpPr>
        <p:sp>
          <p:nvSpPr>
            <p:cNvPr id="268" name=""/>
            <p:cNvSpPr/>
            <p:nvPr/>
          </p:nvSpPr>
          <p:spPr>
            <a:xfrm>
              <a:off x="304920" y="11430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cc6600"/>
                  </a:solidFill>
                  <a:latin typeface="Times New Roman"/>
                </a:rPr>
                <a:t>● </a:t>
              </a:r>
              <a:r>
                <a:rPr b="1" lang="ja-JP" sz="2400" spc="-1" strike="noStrike">
                  <a:solidFill>
                    <a:srgbClr val="cc6600"/>
                  </a:solidFill>
                  <a:latin typeface="Times New Roman"/>
                </a:rPr>
                <a:t>宇宙の立体地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4080" y="114300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アメリカのゲラー博士とハクラ博士の研究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914400"/>
              <a:ext cx="259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cc6600"/>
                  </a:solidFill>
                  <a:latin typeface="Times New Roman"/>
                </a:rPr>
                <a:t>うちゅう　　　りっ たい   ち     ず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57280" y="5862600"/>
            <a:ext cx="82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00"/>
                </a:solidFill>
                <a:latin typeface="Times New Roman"/>
              </a:rPr>
              <a:t>宇宙はまだその一部しか見えていませ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28920" y="304920"/>
            <a:ext cx="2700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もっと遠くへ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4920" y="1143000"/>
            <a:ext cx="8537400" cy="5504400"/>
            <a:chOff x="304920" y="1143000"/>
            <a:chExt cx="8537400" cy="5504400"/>
          </a:xfrm>
        </p:grpSpPr>
        <p:pic>
          <p:nvPicPr>
            <p:cNvPr id="81" name="vinus" descr=""/>
            <p:cNvPicPr/>
            <p:nvPr/>
          </p:nvPicPr>
          <p:blipFill>
            <a:blip r:embed="rId1"/>
            <a:stretch/>
          </p:blipFill>
          <p:spPr>
            <a:xfrm>
              <a:off x="1600200" y="1143000"/>
              <a:ext cx="111924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earth_moon" descr=""/>
            <p:cNvPicPr/>
            <p:nvPr/>
          </p:nvPicPr>
          <p:blipFill>
            <a:blip r:embed="rId2"/>
            <a:stretch/>
          </p:blipFill>
          <p:spPr>
            <a:xfrm>
              <a:off x="2819520" y="1143000"/>
              <a:ext cx="111924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mars" descr=""/>
            <p:cNvPicPr/>
            <p:nvPr/>
          </p:nvPicPr>
          <p:blipFill>
            <a:blip r:embed="rId3"/>
            <a:stretch/>
          </p:blipFill>
          <p:spPr>
            <a:xfrm>
              <a:off x="4114800" y="1219320"/>
              <a:ext cx="10573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mercurie" descr=""/>
            <p:cNvPicPr/>
            <p:nvPr/>
          </p:nvPicPr>
          <p:blipFill>
            <a:blip r:embed="rId4"/>
            <a:stretch/>
          </p:blipFill>
          <p:spPr>
            <a:xfrm>
              <a:off x="304920" y="1143000"/>
              <a:ext cx="114768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3520" y="21337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水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88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金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718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火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jupiter" descr=""/>
            <p:cNvPicPr/>
            <p:nvPr/>
          </p:nvPicPr>
          <p:blipFill>
            <a:blip r:embed="rId5"/>
            <a:stretch/>
          </p:blipFill>
          <p:spPr>
            <a:xfrm>
              <a:off x="5334120" y="1219320"/>
              <a:ext cx="98244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saturn" descr=""/>
            <p:cNvPicPr/>
            <p:nvPr/>
          </p:nvPicPr>
          <p:blipFill>
            <a:blip r:embed="rId6"/>
            <a:stretch/>
          </p:blipFill>
          <p:spPr>
            <a:xfrm>
              <a:off x="6553080" y="1676520"/>
              <a:ext cx="1144800" cy="9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uranus" descr=""/>
            <p:cNvPicPr/>
            <p:nvPr/>
          </p:nvPicPr>
          <p:blipFill>
            <a:blip r:embed="rId7"/>
            <a:stretch/>
          </p:blipFill>
          <p:spPr>
            <a:xfrm>
              <a:off x="7086600" y="2895480"/>
              <a:ext cx="106524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neptune" descr=""/>
            <p:cNvPicPr/>
            <p:nvPr/>
          </p:nvPicPr>
          <p:blipFill>
            <a:blip r:embed="rId8"/>
            <a:stretch/>
          </p:blipFill>
          <p:spPr>
            <a:xfrm>
              <a:off x="7543800" y="4191120"/>
              <a:ext cx="10368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luto" descr=""/>
            <p:cNvPicPr/>
            <p:nvPr/>
          </p:nvPicPr>
          <p:blipFill>
            <a:blip r:embed="rId9"/>
            <a:stretch/>
          </p:blipFill>
          <p:spPr>
            <a:xfrm>
              <a:off x="7848720" y="5410080"/>
              <a:ext cx="99360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86400" y="2133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木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168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土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2920" y="38098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天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43800" y="5029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海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48720" y="6248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冥王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51000" y="2604960"/>
            <a:ext cx="1066680" cy="3962520"/>
            <a:chOff x="351000" y="2604960"/>
            <a:chExt cx="1066680" cy="3962520"/>
          </a:xfrm>
        </p:grpSpPr>
        <p:sp>
          <p:nvSpPr>
            <p:cNvPr id="100" name=""/>
            <p:cNvSpPr/>
            <p:nvPr/>
          </p:nvSpPr>
          <p:spPr>
            <a:xfrm>
              <a:off x="351000" y="2604960"/>
              <a:ext cx="1066680" cy="3962520"/>
            </a:xfrm>
            <a:prstGeom prst="flowChartDelay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960" y="4129200"/>
              <a:ext cx="8384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太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224000" y="2515680"/>
            <a:ext cx="3352680" cy="1770840"/>
            <a:chOff x="1224000" y="2515680"/>
            <a:chExt cx="3352680" cy="1770840"/>
          </a:xfrm>
        </p:grpSpPr>
        <p:sp>
          <p:nvSpPr>
            <p:cNvPr id="103" name=""/>
            <p:cNvSpPr/>
            <p:nvPr/>
          </p:nvSpPr>
          <p:spPr>
            <a:xfrm flipV="1">
              <a:off x="1224000" y="2515680"/>
              <a:ext cx="1828800" cy="30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4000" y="27446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1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億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5000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万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3506760"/>
              <a:ext cx="31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新幹線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0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38876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光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2588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人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28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40000" y="4641840"/>
            <a:ext cx="6400800" cy="1770120"/>
            <a:chOff x="1440000" y="4641840"/>
            <a:chExt cx="6400800" cy="1770120"/>
          </a:xfrm>
        </p:grpSpPr>
        <p:sp>
          <p:nvSpPr>
            <p:cNvPr id="109" name=""/>
            <p:cNvSpPr/>
            <p:nvPr/>
          </p:nvSpPr>
          <p:spPr>
            <a:xfrm>
              <a:off x="1516320" y="4641840"/>
              <a:ext cx="6324480" cy="9140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000" y="4870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59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億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3100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万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16320" y="56322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新幹線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0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225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6320" y="60130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光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秒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6320" y="52513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人間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時速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4km)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で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万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28920" y="304920"/>
            <a:ext cx="2700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もっと遠くへ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4864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火星と木星の間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無数に存在す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小惑星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うちの一つ。軌道が測定されると、発見者が名前をつけることができ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33520" y="1066680"/>
            <a:ext cx="7772400" cy="536040"/>
            <a:chOff x="533520" y="1066680"/>
            <a:chExt cx="7772400" cy="536040"/>
          </a:xfrm>
        </p:grpSpPr>
        <p:sp>
          <p:nvSpPr>
            <p:cNvPr id="117" name=""/>
            <p:cNvSpPr/>
            <p:nvPr/>
          </p:nvSpPr>
          <p:spPr>
            <a:xfrm>
              <a:off x="533520" y="10666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Times New Roman"/>
                </a:rPr>
                <a:t>● </a:t>
              </a:r>
              <a:r>
                <a:rPr b="1" lang="ja-JP" sz="2800" spc="-1" strike="noStrike">
                  <a:solidFill>
                    <a:srgbClr val="008000"/>
                  </a:solidFill>
                  <a:latin typeface="Times New Roman"/>
                </a:rPr>
                <a:t>小惑星「木曽」 </a:t>
              </a:r>
              <a:r>
                <a:rPr b="1" lang="ja-JP" sz="2800" spc="-1" strike="noStrike">
                  <a:solidFill>
                    <a:srgbClr val="008000"/>
                  </a:solidFill>
                  <a:latin typeface="Times New Roman"/>
                </a:rPr>
                <a:t>--- </a:t>
              </a:r>
              <a:r>
                <a:rPr b="1" lang="ja-JP" sz="2800" spc="-1" strike="noStrike">
                  <a:solidFill>
                    <a:srgbClr val="008000"/>
                  </a:solidFill>
                  <a:latin typeface="Times New Roman"/>
                </a:rPr>
                <a:t>木曽観測所で発見 </a:t>
              </a:r>
              <a:r>
                <a:rPr b="1" lang="ja-JP" sz="2800" spc="-1" strike="noStrike">
                  <a:solidFill>
                    <a:srgbClr val="008000"/>
                  </a:solidFill>
                  <a:latin typeface="Times New Roman"/>
                </a:rPr>
                <a:t>--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1976</a:t>
              </a:r>
              <a:r>
                <a:rPr b="1" lang="ja-JP" sz="2400" spc="-1" strike="noStrike">
                  <a:solidFill>
                    <a:srgbClr val="996633"/>
                  </a:solidFill>
                  <a:latin typeface="Times New Roman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09480" y="1600200"/>
            <a:ext cx="7882200" cy="3830760"/>
            <a:chOff x="609480" y="1600200"/>
            <a:chExt cx="7882200" cy="3830760"/>
          </a:xfrm>
        </p:grpSpPr>
        <p:pic>
          <p:nvPicPr>
            <p:cNvPr id="120" name="mp_kiso1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mp_kiso2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14800" y="350532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3733920"/>
              <a:ext cx="2361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この間、約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時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28920" y="304920"/>
            <a:ext cx="2700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もっと遠くへ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●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小惑星「上松」「三岳」「王滝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3_minor_planets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77000" cy="4130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5760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---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木曽観測所で発見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5943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観測所が隣接している３町村の名前にちなんで命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6633"/>
                </a:solidFill>
                <a:latin typeface="Times New Roman"/>
              </a:rPr>
              <a:t>1977</a:t>
            </a:r>
            <a:r>
              <a:rPr b="1" lang="ja-JP" sz="2400" spc="-1" strike="noStrike">
                <a:solidFill>
                  <a:srgbClr val="996633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28920" y="304920"/>
            <a:ext cx="2700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もっと遠くへ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295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太陽に最も近い恒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1295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アルファ・ケンタウリ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(4.3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光年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828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Times New Roman"/>
              </a:rPr>
              <a:t>太陽とほとんど同じ明るさ、同じ大き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太陽を１００円玉サイズ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約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2.3cm)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に縮めて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JR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薮原駅に置くとアルファ・ケンタウリは何処へ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japan" descr=""/>
          <p:cNvPicPr/>
          <p:nvPr/>
        </p:nvPicPr>
        <p:blipFill>
          <a:blip r:embed="rId1"/>
          <a:srcRect l="1319" t="2815" r="3818" b="4386"/>
          <a:stretch/>
        </p:blipFill>
        <p:spPr>
          <a:xfrm>
            <a:off x="2286000" y="3276720"/>
            <a:ext cx="54864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914400" y="5105160"/>
            <a:ext cx="3809880" cy="1008720"/>
            <a:chOff x="914400" y="5105160"/>
            <a:chExt cx="3809880" cy="1008720"/>
          </a:xfrm>
        </p:grpSpPr>
        <p:sp>
          <p:nvSpPr>
            <p:cNvPr id="137" name=""/>
            <p:cNvSpPr/>
            <p:nvPr/>
          </p:nvSpPr>
          <p:spPr>
            <a:xfrm flipV="1">
              <a:off x="1752480" y="5105160"/>
              <a:ext cx="2971800" cy="60948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57150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ff"/>
                  </a:solidFill>
                  <a:latin typeface="Times New Roman"/>
                </a:rPr>
                <a:t>JR</a:t>
              </a:r>
              <a:r>
                <a:rPr b="1" lang="ja-JP" sz="2000" spc="-1" strike="noStrike">
                  <a:solidFill>
                    <a:srgbClr val="ff00ff"/>
                  </a:solidFill>
                  <a:latin typeface="Times New Roman"/>
                </a:rPr>
                <a:t>薮原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76720" y="579132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光年 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約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兆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5000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億 </a:t>
            </a:r>
            <a:r>
              <a:rPr b="1" lang="ja-JP" sz="2200" spc="-1" strike="noStrike">
                <a:solidFill>
                  <a:srgbClr val="ff0066"/>
                </a:solidFill>
                <a:latin typeface="Times New Roman"/>
              </a:rPr>
              <a:t>km 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m42bvr" descr=""/>
          <p:cNvPicPr/>
          <p:nvPr/>
        </p:nvPicPr>
        <p:blipFill>
          <a:blip r:embed="rId1"/>
          <a:srcRect l="5905" t="7253" r="6274" b="30519"/>
          <a:stretch/>
        </p:blipFill>
        <p:spPr>
          <a:xfrm>
            <a:off x="1295280" y="609480"/>
            <a:ext cx="6413760" cy="61279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819520" y="71280"/>
            <a:ext cx="3581280" cy="617040"/>
            <a:chOff x="2819520" y="71280"/>
            <a:chExt cx="3581280" cy="617040"/>
          </a:xfrm>
        </p:grpSpPr>
        <p:sp>
          <p:nvSpPr>
            <p:cNvPr id="142" name=""/>
            <p:cNvSpPr/>
            <p:nvPr/>
          </p:nvSpPr>
          <p:spPr>
            <a:xfrm>
              <a:off x="281952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オリオン座大星雲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Ｍ４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712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ざ　だいせい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62320" y="6248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おおくの星が生まれているとこ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819520" y="71280"/>
            <a:ext cx="3581280" cy="617040"/>
            <a:chOff x="2819520" y="71280"/>
            <a:chExt cx="3581280" cy="617040"/>
          </a:xfrm>
        </p:grpSpPr>
        <p:sp>
          <p:nvSpPr>
            <p:cNvPr id="146" name=""/>
            <p:cNvSpPr/>
            <p:nvPr/>
          </p:nvSpPr>
          <p:spPr>
            <a:xfrm>
              <a:off x="281952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オリオン座大星雲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Ｍ４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480" y="712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ざ　だいせい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m42jhk" descr=""/>
          <p:cNvPicPr/>
          <p:nvPr/>
        </p:nvPicPr>
        <p:blipFill>
          <a:blip r:embed="rId1"/>
          <a:srcRect l="6459" t="4892" r="6828" b="29913"/>
          <a:stretch/>
        </p:blipFill>
        <p:spPr>
          <a:xfrm>
            <a:off x="1752480" y="685800"/>
            <a:ext cx="5826240" cy="57834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90720" y="88920"/>
            <a:ext cx="2133360" cy="612000"/>
            <a:chOff x="990720" y="88920"/>
            <a:chExt cx="2133360" cy="612000"/>
          </a:xfrm>
        </p:grpSpPr>
        <p:sp>
          <p:nvSpPr>
            <p:cNvPr id="150" name=""/>
            <p:cNvSpPr/>
            <p:nvPr/>
          </p:nvSpPr>
          <p:spPr>
            <a:xfrm>
              <a:off x="990720" y="241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赤外線でみ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88920"/>
              <a:ext cx="149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Times New Roman"/>
                </a:rPr>
                <a:t>せきがいせ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819520" y="71280"/>
            <a:ext cx="3581280" cy="617040"/>
            <a:chOff x="2819520" y="71280"/>
            <a:chExt cx="3581280" cy="617040"/>
          </a:xfrm>
        </p:grpSpPr>
        <p:sp>
          <p:nvSpPr>
            <p:cNvPr id="153" name=""/>
            <p:cNvSpPr/>
            <p:nvPr/>
          </p:nvSpPr>
          <p:spPr>
            <a:xfrm>
              <a:off x="2819520" y="228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オリオン座大星雲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Ｍ４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712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ざ　だいせいう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3520" y="762120"/>
            <a:ext cx="4513320" cy="4921200"/>
            <a:chOff x="533520" y="762120"/>
            <a:chExt cx="4513320" cy="4921200"/>
          </a:xfrm>
        </p:grpSpPr>
        <p:pic>
          <p:nvPicPr>
            <p:cNvPr id="156" name="m42bvr" descr=""/>
            <p:cNvPicPr/>
            <p:nvPr/>
          </p:nvPicPr>
          <p:blipFill>
            <a:blip r:embed="rId1"/>
            <a:srcRect l="5905" t="7253" r="6274" b="30519"/>
            <a:stretch/>
          </p:blipFill>
          <p:spPr>
            <a:xfrm>
              <a:off x="533520" y="1371600"/>
              <a:ext cx="4513320" cy="43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2286000" y="762120"/>
              <a:ext cx="1447920" cy="612000"/>
              <a:chOff x="2286000" y="762120"/>
              <a:chExt cx="1447920" cy="612000"/>
            </a:xfrm>
          </p:grpSpPr>
          <p:sp>
            <p:nvSpPr>
              <p:cNvPr id="158" name=""/>
              <p:cNvSpPr/>
              <p:nvPr/>
            </p:nvSpPr>
            <p:spPr>
              <a:xfrm>
                <a:off x="2286000" y="9144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光でみ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86000" y="7621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ff"/>
                    </a:solidFill>
                    <a:latin typeface="Times New Roman"/>
                  </a:rPr>
                  <a:t>ひか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181480" y="762120"/>
            <a:ext cx="3198960" cy="4470120"/>
            <a:chOff x="5181480" y="762120"/>
            <a:chExt cx="3198960" cy="4470120"/>
          </a:xfrm>
        </p:grpSpPr>
        <p:pic>
          <p:nvPicPr>
            <p:cNvPr id="161" name="m42jhk" descr=""/>
            <p:cNvPicPr/>
            <p:nvPr/>
          </p:nvPicPr>
          <p:blipFill>
            <a:blip r:embed="rId2"/>
            <a:srcRect l="6459" t="4892" r="6828" b="29913"/>
            <a:stretch/>
          </p:blipFill>
          <p:spPr>
            <a:xfrm>
              <a:off x="5181480" y="2057400"/>
              <a:ext cx="3198960" cy="317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5867280" y="762120"/>
              <a:ext cx="2057400" cy="612000"/>
              <a:chOff x="5867280" y="762120"/>
              <a:chExt cx="2057400" cy="612000"/>
            </a:xfrm>
          </p:grpSpPr>
          <p:sp>
            <p:nvSpPr>
              <p:cNvPr id="163" name=""/>
              <p:cNvSpPr/>
              <p:nvPr/>
            </p:nvSpPr>
            <p:spPr>
              <a:xfrm>
                <a:off x="5867280" y="91440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ff0000"/>
                    </a:solidFill>
                    <a:latin typeface="Times New Roman"/>
                  </a:rPr>
                  <a:t>赤外線でみ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7280" y="762120"/>
                <a:ext cx="167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ff0000"/>
                    </a:solidFill>
                    <a:latin typeface="Times New Roman"/>
                  </a:rPr>
                  <a:t>せき がいせん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609480" y="5791320"/>
            <a:ext cx="7848720" cy="612000"/>
            <a:chOff x="609480" y="5791320"/>
            <a:chExt cx="7848720" cy="612000"/>
          </a:xfrm>
        </p:grpSpPr>
        <p:sp>
          <p:nvSpPr>
            <p:cNvPr id="166" name=""/>
            <p:cNvSpPr/>
            <p:nvPr/>
          </p:nvSpPr>
          <p:spPr>
            <a:xfrm>
              <a:off x="609480" y="59436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赤外線カメラをつかうことで濃いガスの中も見ることができ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5791320"/>
              <a:ext cx="601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せきがい せん                                                                     こ                                 なか        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533520" y="380880"/>
            <a:ext cx="3566880" cy="6199200"/>
            <a:chOff x="533520" y="380880"/>
            <a:chExt cx="3566880" cy="6199200"/>
          </a:xfrm>
        </p:grpSpPr>
        <p:pic>
          <p:nvPicPr>
            <p:cNvPr id="169" name="uma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3566880" cy="551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914400" y="380880"/>
              <a:ext cx="2895480" cy="612360"/>
              <a:chOff x="914400" y="380880"/>
              <a:chExt cx="2895480" cy="612360"/>
            </a:xfrm>
          </p:grpSpPr>
          <p:sp>
            <p:nvSpPr>
              <p:cNvPr id="171" name=""/>
              <p:cNvSpPr/>
              <p:nvPr/>
            </p:nvSpPr>
            <p:spPr>
              <a:xfrm>
                <a:off x="914400" y="53352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オリオン座馬頭星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57400" y="380880"/>
                <a:ext cx="175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ff"/>
                    </a:solidFill>
                    <a:latin typeface="Times New Roman"/>
                  </a:rPr>
                  <a:t>ざ    ば   とう せい うん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419720" y="380880"/>
            <a:ext cx="4343400" cy="6178680"/>
            <a:chOff x="4419720" y="380880"/>
            <a:chExt cx="4343400" cy="6178680"/>
          </a:xfrm>
        </p:grpSpPr>
        <p:pic>
          <p:nvPicPr>
            <p:cNvPr id="174" name="m78bvr" descr=""/>
            <p:cNvPicPr/>
            <p:nvPr/>
          </p:nvPicPr>
          <p:blipFill>
            <a:blip r:embed="rId2"/>
            <a:srcRect l="16867" t="5542" r="8913" b="27316"/>
            <a:stretch/>
          </p:blipFill>
          <p:spPr>
            <a:xfrm>
              <a:off x="4419720" y="1066680"/>
              <a:ext cx="4343400" cy="549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5867280" y="380880"/>
              <a:ext cx="1524240" cy="612360"/>
              <a:chOff x="5867280" y="380880"/>
              <a:chExt cx="1524240" cy="612360"/>
            </a:xfrm>
          </p:grpSpPr>
          <p:sp>
            <p:nvSpPr>
              <p:cNvPr id="176" name=""/>
              <p:cNvSpPr/>
              <p:nvPr/>
            </p:nvSpPr>
            <p:spPr>
              <a:xfrm>
                <a:off x="5867280" y="53352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Ｍ７８星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53080" y="38088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ff"/>
                    </a:solidFill>
                    <a:latin typeface="Times New Roman"/>
                  </a:rPr>
                  <a:t>せい うん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0:22:05Z</dcterms:created>
  <dc:creator>nishiura</dc:creator>
  <dc:description/>
  <dc:language>en-US</dc:language>
  <cp:lastModifiedBy>Shingo Nishiura</cp:lastModifiedBy>
  <dcterms:modified xsi:type="dcterms:W3CDTF">2003-10-30T00:32:38Z</dcterms:modified>
  <cp:revision>50</cp:revision>
  <dc:subject/>
  <dc:title>PowerPoint プレゼンテーション</dc:title>
</cp:coreProperties>
</file>