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7AB-9CC2-4FD0-B78A-F4DE837A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AE3-564F-484A-BD66-F45DD736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C96-58E9-41C5-8C0F-E1ED8EE0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AFE-3856-47CD-BF64-18F8A5FC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BA2-C11E-46F8-A5CD-DA3E5ADA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D62-7FF9-490C-BFFE-EE532FCD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7C1-651C-4556-9351-8FDA4F59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9B1-BA8F-4473-9172-3DA53BBE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3C5-74D0-4422-940B-67010D5C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230-A6BB-438F-9790-6C2E171D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1DF-F373-48BC-BA71-EDCEF4ED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F9C-100E-4DE7-A3B8-6536B716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CE96-A11A-468A-97F7-1335346D94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iso_obs" descr=""/>
          <p:cNvPicPr/>
          <p:nvPr/>
        </p:nvPicPr>
        <p:blipFill>
          <a:blip r:embed="rId1"/>
          <a:srcRect l="3802" t="10085" r="4928" b="35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362320" y="5257800"/>
            <a:ext cx="6172200" cy="1434960"/>
            <a:chOff x="2362320" y="5257800"/>
            <a:chExt cx="6172200" cy="1434960"/>
          </a:xfrm>
        </p:grpSpPr>
        <p:sp>
          <p:nvSpPr>
            <p:cNvPr id="43" name=""/>
            <p:cNvSpPr/>
            <p:nvPr/>
          </p:nvSpPr>
          <p:spPr>
            <a:xfrm>
              <a:off x="2362320" y="5257800"/>
              <a:ext cx="487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00"/>
                  </a:solidFill>
                  <a:latin typeface="Times New Roman"/>
                </a:rPr>
                <a:t>東京大学大学院理学系研究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5715000"/>
              <a:ext cx="579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00"/>
                  </a:solidFill>
                  <a:latin typeface="Times New Roman"/>
                </a:rPr>
                <a:t>天文学教育研究センター木曽観測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24080" y="6172200"/>
              <a:ext cx="44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00"/>
                  </a:solidFill>
                  <a:latin typeface="Times New Roman"/>
                </a:rPr>
                <a:t>研究機関研究員  西浦 慎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838080" y="1203480"/>
            <a:ext cx="7696440" cy="3419640"/>
            <a:chOff x="838080" y="1203480"/>
            <a:chExt cx="7696440" cy="3419640"/>
          </a:xfrm>
        </p:grpSpPr>
        <p:sp>
          <p:nvSpPr>
            <p:cNvPr id="47" name=""/>
            <p:cNvSpPr txBox="1"/>
            <p:nvPr/>
          </p:nvSpPr>
          <p:spPr>
            <a:xfrm>
              <a:off x="838080" y="1981080"/>
              <a:ext cx="7696440" cy="178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7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ＭＳ Ｐゴシック"/>
                </a:rPr>
                <a:t>星空教室</a:t>
              </a:r>
              <a:endParaRPr b="1" i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ＭＳ Ｐゴシック"/>
                <a:ea typeface="ＭＳ Ｐゴシック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57400" y="120348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9900"/>
                  </a:solidFill>
                  <a:latin typeface="Times New Roman"/>
                </a:rPr>
                <a:t>2003. 10. 30. (</a:t>
              </a:r>
              <a:r>
                <a:rPr b="1" lang="ja-JP" sz="3200" spc="-1" strike="noStrike">
                  <a:solidFill>
                    <a:srgbClr val="ff9900"/>
                  </a:solidFill>
                  <a:latin typeface="Times New Roman"/>
                </a:rPr>
                <a:t>木</a:t>
              </a:r>
              <a:r>
                <a:rPr b="1" lang="ja-JP" sz="3200" spc="-1" strike="noStrike">
                  <a:solidFill>
                    <a:srgbClr val="ff9900"/>
                  </a:solidFill>
                  <a:latin typeface="Times New Roman"/>
                </a:rPr>
                <a:t>) </a:t>
              </a:r>
              <a:r>
                <a:rPr b="1" lang="ja-JP" sz="3200" spc="-1" strike="noStrike">
                  <a:solidFill>
                    <a:srgbClr val="ff9900"/>
                  </a:solidFill>
                  <a:latin typeface="Times New Roman"/>
                </a:rPr>
                <a:t>木祖小学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09880" y="404172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3200" spc="-1" strike="noStrike">
                  <a:solidFill>
                    <a:srgbClr val="ffffff"/>
                  </a:solidFill>
                  <a:latin typeface="Times New Roman"/>
                </a:rPr>
                <a:t>～理科特別授業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28920" y="380880"/>
            <a:ext cx="387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流星群はどこから来るの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53880" y="1106640"/>
            <a:ext cx="4229280" cy="3324960"/>
            <a:chOff x="353880" y="1106640"/>
            <a:chExt cx="4229280" cy="3324960"/>
          </a:xfrm>
        </p:grpSpPr>
        <p:pic>
          <p:nvPicPr>
            <p:cNvPr id="155" name="ic_r" descr=""/>
            <p:cNvPicPr/>
            <p:nvPr/>
          </p:nvPicPr>
          <p:blipFill>
            <a:blip r:embed="rId1"/>
            <a:stretch/>
          </p:blipFill>
          <p:spPr>
            <a:xfrm>
              <a:off x="368280" y="1106640"/>
              <a:ext cx="421488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53880" y="3971880"/>
              <a:ext cx="290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↑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イケヤ・チャン彗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69960" y="1092240"/>
            <a:ext cx="7035840" cy="4638600"/>
            <a:chOff x="1569960" y="1092240"/>
            <a:chExt cx="7035840" cy="4638600"/>
          </a:xfrm>
        </p:grpSpPr>
        <p:pic>
          <p:nvPicPr>
            <p:cNvPr id="158" name="hale_bope" descr=""/>
            <p:cNvPicPr/>
            <p:nvPr/>
          </p:nvPicPr>
          <p:blipFill>
            <a:blip r:embed="rId2"/>
            <a:srcRect l="5529" t="3712" r="3384" b="17087"/>
            <a:stretch/>
          </p:blipFill>
          <p:spPr>
            <a:xfrm>
              <a:off x="4691160" y="1092240"/>
              <a:ext cx="3914640" cy="46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69960" y="4518000"/>
              <a:ext cx="304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ヘール・ボップ彗星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557360" y="5910120"/>
            <a:ext cx="57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実は彗星が流星群の「もと」になってい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428920" y="380880"/>
            <a:ext cx="387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流星群はどこから来るの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81320" y="3476520"/>
            <a:ext cx="914400" cy="840600"/>
            <a:chOff x="2281320" y="3476520"/>
            <a:chExt cx="914400" cy="840600"/>
          </a:xfrm>
        </p:grpSpPr>
        <p:sp>
          <p:nvSpPr>
            <p:cNvPr id="163" name=""/>
            <p:cNvSpPr/>
            <p:nvPr/>
          </p:nvSpPr>
          <p:spPr>
            <a:xfrm>
              <a:off x="2509920" y="3476520"/>
              <a:ext cx="380880" cy="3808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1320" y="3857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9900"/>
                  </a:solidFill>
                  <a:latin typeface="Times New Roman"/>
                </a:rPr>
                <a:t>太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855800" y="1787760"/>
            <a:ext cx="6411600" cy="2520000"/>
            <a:chOff x="1855800" y="1787760"/>
            <a:chExt cx="6411600" cy="2520000"/>
          </a:xfrm>
        </p:grpSpPr>
        <p:grpSp>
          <p:nvGrpSpPr>
            <p:cNvPr id="166" name=""/>
            <p:cNvGrpSpPr/>
            <p:nvPr/>
          </p:nvGrpSpPr>
          <p:grpSpPr>
            <a:xfrm>
              <a:off x="5589720" y="2057040"/>
              <a:ext cx="1371600" cy="457200"/>
              <a:chOff x="5589720" y="2057040"/>
              <a:chExt cx="137160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5589720" y="24382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1480" y="22096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18320" y="24382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656400" y="20570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22880" y="23619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04120" y="22856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32720" y="22096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94280" y="2285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04120" y="2057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122880" y="22096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85000" y="21333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065480" y="2361960"/>
              <a:ext cx="1371600" cy="533520"/>
              <a:chOff x="4065480" y="2361960"/>
              <a:chExt cx="1371600" cy="533520"/>
            </a:xfrm>
          </p:grpSpPr>
          <p:sp>
            <p:nvSpPr>
              <p:cNvPr id="179" name=""/>
              <p:cNvSpPr/>
              <p:nvPr/>
            </p:nvSpPr>
            <p:spPr>
              <a:xfrm>
                <a:off x="4065480" y="2742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0040" y="26668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94080" y="28191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32160" y="24382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03560" y="26668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08480" y="25905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60760" y="23619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22680" y="2742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79880" y="25142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74960" y="26668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98640" y="2514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693880" y="2819160"/>
              <a:ext cx="1447560" cy="533520"/>
              <a:chOff x="2693880" y="2819160"/>
              <a:chExt cx="1447560" cy="533520"/>
            </a:xfrm>
          </p:grpSpPr>
          <p:sp>
            <p:nvSpPr>
              <p:cNvPr id="191" name=""/>
              <p:cNvSpPr/>
              <p:nvPr/>
            </p:nvSpPr>
            <p:spPr>
              <a:xfrm>
                <a:off x="2693880" y="32763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98440" y="30477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922480" y="32000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60560" y="28191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31960" y="30477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836880" y="29714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65480" y="28191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51080" y="31240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08280" y="28954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03360" y="30477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27040" y="28954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7189920" y="1981080"/>
              <a:ext cx="1066320" cy="609120"/>
              <a:chOff x="7189920" y="1981080"/>
              <a:chExt cx="1066320" cy="609120"/>
            </a:xfrm>
          </p:grpSpPr>
          <p:sp>
            <p:nvSpPr>
              <p:cNvPr id="203" name=""/>
              <p:cNvSpPr/>
              <p:nvPr/>
            </p:nvSpPr>
            <p:spPr>
              <a:xfrm>
                <a:off x="7570800" y="1981080"/>
                <a:ext cx="7560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70800" y="2133360"/>
                <a:ext cx="7560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42200" y="2133360"/>
                <a:ext cx="7560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89920" y="19810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75360" y="19810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103960" y="220932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103960" y="205704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99400" y="2209320"/>
                <a:ext cx="7560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28000" y="2514240"/>
                <a:ext cx="7560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180280" y="2361960"/>
                <a:ext cx="7596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6427800" y="2590560"/>
              <a:ext cx="1371600" cy="533520"/>
              <a:chOff x="6427800" y="2590560"/>
              <a:chExt cx="1371600" cy="533520"/>
            </a:xfrm>
          </p:grpSpPr>
          <p:sp>
            <p:nvSpPr>
              <p:cNvPr id="214" name=""/>
              <p:cNvSpPr/>
              <p:nvPr/>
            </p:nvSpPr>
            <p:spPr>
              <a:xfrm>
                <a:off x="6427800" y="29714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32360" y="28954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56400" y="30477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94480" y="26668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265880" y="28954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570800" y="28191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23080" y="25905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885000" y="29714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42200" y="2742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037280" y="28954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960960" y="27428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903920" y="3124080"/>
              <a:ext cx="1371600" cy="532800"/>
              <a:chOff x="4903920" y="3124080"/>
              <a:chExt cx="1371600" cy="53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4903920" y="350460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208480" y="342864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32520" y="358092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70600" y="320004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42000" y="342864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46920" y="335232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99200" y="31240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61120" y="350460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18320" y="327600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13400" y="3428640"/>
                <a:ext cx="7632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37080" y="32760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855800" y="3352680"/>
              <a:ext cx="1447920" cy="761760"/>
              <a:chOff x="1855800" y="3352680"/>
              <a:chExt cx="1447920" cy="761760"/>
            </a:xfrm>
          </p:grpSpPr>
          <p:sp>
            <p:nvSpPr>
              <p:cNvPr id="238" name=""/>
              <p:cNvSpPr/>
              <p:nvPr/>
            </p:nvSpPr>
            <p:spPr>
              <a:xfrm>
                <a:off x="3227400" y="39621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13000" y="38858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51440" y="37335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922840" y="380988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55800" y="36572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855800" y="38858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37040" y="36572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13000" y="33526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98800" y="40384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84400" y="35049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84400" y="40384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160720" y="373356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rot="20700000">
              <a:off x="1932120" y="2590560"/>
              <a:ext cx="632448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3532320" y="3428640"/>
              <a:ext cx="1371600" cy="533520"/>
              <a:chOff x="3532320" y="3428640"/>
              <a:chExt cx="1371600" cy="533520"/>
            </a:xfrm>
          </p:grpSpPr>
          <p:sp>
            <p:nvSpPr>
              <p:cNvPr id="252" name=""/>
              <p:cNvSpPr/>
              <p:nvPr/>
            </p:nvSpPr>
            <p:spPr>
              <a:xfrm>
                <a:off x="3532320" y="380952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36880" y="373356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60920" y="38858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99000" y="350496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70400" y="373356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75320" y="36572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27600" y="342864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89520" y="380952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46720" y="358092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41800" y="373356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65480" y="358092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677880" y="2603520"/>
            <a:ext cx="4419720" cy="1828800"/>
            <a:chOff x="677880" y="2603520"/>
            <a:chExt cx="4419720" cy="1828800"/>
          </a:xfrm>
        </p:grpSpPr>
        <p:sp>
          <p:nvSpPr>
            <p:cNvPr id="264" name=""/>
            <p:cNvSpPr/>
            <p:nvPr/>
          </p:nvSpPr>
          <p:spPr>
            <a:xfrm>
              <a:off x="830520" y="3060720"/>
              <a:ext cx="3733560" cy="13716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183200" y="3060720"/>
              <a:ext cx="914400" cy="761760"/>
              <a:chOff x="4183200" y="3060720"/>
              <a:chExt cx="914400" cy="761760"/>
            </a:xfrm>
          </p:grpSpPr>
          <p:sp>
            <p:nvSpPr>
              <p:cNvPr id="266" name=""/>
              <p:cNvSpPr/>
              <p:nvPr/>
            </p:nvSpPr>
            <p:spPr>
              <a:xfrm>
                <a:off x="4411800" y="3517920"/>
                <a:ext cx="304920" cy="3045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83200" y="3060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ff"/>
                    </a:solidFill>
                    <a:latin typeface="Times New Roman"/>
                  </a:rPr>
                  <a:t>地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677880" y="2603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ff"/>
                  </a:solidFill>
                  <a:latin typeface="Times New Roman"/>
                </a:rPr>
                <a:t>地球の通り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533760" y="2157480"/>
            <a:ext cx="1189800" cy="844560"/>
            <a:chOff x="3533760" y="2157480"/>
            <a:chExt cx="1189800" cy="844560"/>
          </a:xfrm>
        </p:grpSpPr>
        <p:grpSp>
          <p:nvGrpSpPr>
            <p:cNvPr id="270" name=""/>
            <p:cNvGrpSpPr/>
            <p:nvPr/>
          </p:nvGrpSpPr>
          <p:grpSpPr>
            <a:xfrm>
              <a:off x="3946320" y="2238480"/>
              <a:ext cx="777240" cy="763560"/>
              <a:chOff x="3946320" y="2238480"/>
              <a:chExt cx="777240" cy="763560"/>
            </a:xfrm>
          </p:grpSpPr>
          <p:sp>
            <p:nvSpPr>
              <p:cNvPr id="271" name=""/>
              <p:cNvSpPr/>
              <p:nvPr/>
            </p:nvSpPr>
            <p:spPr>
              <a:xfrm>
                <a:off x="3946320" y="2674800"/>
                <a:ext cx="353520" cy="327240"/>
              </a:xfrm>
              <a:prstGeom prst="star5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190400" y="2238480"/>
                <a:ext cx="410760" cy="557280"/>
              </a:xfrm>
              <a:prstGeom prst="line">
                <a:avLst/>
              </a:prstGeom>
              <a:ln w="316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4231800" y="2347920"/>
                <a:ext cx="435960" cy="465120"/>
              </a:xfrm>
              <a:prstGeom prst="line">
                <a:avLst/>
              </a:prstGeom>
              <a:ln w="316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4244400" y="2455920"/>
                <a:ext cx="479160" cy="396720"/>
              </a:xfrm>
              <a:prstGeom prst="line">
                <a:avLst/>
              </a:prstGeom>
              <a:ln w="316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3533760" y="2157480"/>
              <a:ext cx="9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9900"/>
                  </a:solidFill>
                  <a:latin typeface="Times New Roman"/>
                </a:rPr>
                <a:t>彗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063800" y="5008680"/>
            <a:ext cx="69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地球の通り道と、彗星の通り道が交差する場所で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流星群が起こ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50880" y="1114560"/>
            <a:ext cx="4595760" cy="4338000"/>
            <a:chOff x="650880" y="1114560"/>
            <a:chExt cx="4595760" cy="4338000"/>
          </a:xfrm>
        </p:grpSpPr>
        <p:sp>
          <p:nvSpPr>
            <p:cNvPr id="278" name=""/>
            <p:cNvSpPr/>
            <p:nvPr/>
          </p:nvSpPr>
          <p:spPr>
            <a:xfrm>
              <a:off x="650880" y="111456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みずがめ座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η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5/3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0880" y="2409840"/>
              <a:ext cx="39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ペルセウス座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8/7-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0880" y="3095640"/>
              <a:ext cx="39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ジャコビニ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10/8-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0880" y="3781440"/>
              <a:ext cx="45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おうし座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10/23-11/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6840" y="4391280"/>
              <a:ext cx="406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しし座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11/14-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0880" y="172404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うしかい座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6/27-7/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9840" y="4992840"/>
              <a:ext cx="41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ふたご座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12/11-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316480" y="1101600"/>
            <a:ext cx="3376440" cy="4326840"/>
            <a:chOff x="5316480" y="1101600"/>
            <a:chExt cx="3376440" cy="4326840"/>
          </a:xfrm>
        </p:grpSpPr>
        <p:sp>
          <p:nvSpPr>
            <p:cNvPr id="286" name=""/>
            <p:cNvSpPr/>
            <p:nvPr/>
          </p:nvSpPr>
          <p:spPr>
            <a:xfrm>
              <a:off x="5330880" y="11016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ハレー彗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16480" y="2397240"/>
              <a:ext cx="29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スイフト・タットル彗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24400" y="3070080"/>
              <a:ext cx="3368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200" spc="-1" strike="noStrike">
                  <a:solidFill>
                    <a:srgbClr val="ff3300"/>
                  </a:solidFill>
                  <a:latin typeface="Times New Roman"/>
                </a:rPr>
                <a:t>ジャコビニ・ツィンナー彗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43480" y="3781440"/>
              <a:ext cx="17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エンケ彗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7000" y="4376880"/>
              <a:ext cx="30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テンペル・タットル彗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43480" y="1739880"/>
              <a:ext cx="29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ポン・ウィネック彗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32320" y="4968720"/>
              <a:ext cx="256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パエトン（小惑星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606760" y="571824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流星群には母彗星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28920" y="380880"/>
            <a:ext cx="387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流星群はどこから来るの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neat_linear" descr=""/>
          <p:cNvPicPr/>
          <p:nvPr/>
        </p:nvPicPr>
        <p:blipFill>
          <a:blip r:embed="rId1"/>
          <a:srcRect l="1004" t="2219" r="1490" b="1222"/>
          <a:stretch/>
        </p:blipFill>
        <p:spPr>
          <a:xfrm>
            <a:off x="492120" y="888840"/>
            <a:ext cx="5407200" cy="53946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812960" y="326880"/>
            <a:ext cx="5487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そして彗星がやって来る～２００４年春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32520" y="95580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←</a:t>
            </a: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リニア彗星（</a:t>
            </a: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C/2002 T7</a:t>
            </a: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31080" y="32479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966ff"/>
                </a:solidFill>
                <a:latin typeface="Times New Roman"/>
              </a:rPr>
              <a:t>←</a:t>
            </a:r>
            <a:r>
              <a:rPr b="1" lang="ja-JP" sz="2400" spc="-1" strike="noStrike">
                <a:solidFill>
                  <a:srgbClr val="9966ff"/>
                </a:solidFill>
                <a:latin typeface="Times New Roman"/>
              </a:rPr>
              <a:t>ニート彗星（</a:t>
            </a:r>
            <a:r>
              <a:rPr b="1" lang="ja-JP" sz="2400" spc="-1" strike="noStrike">
                <a:solidFill>
                  <a:srgbClr val="9966ff"/>
                </a:solidFill>
                <a:latin typeface="Times New Roman"/>
              </a:rPr>
              <a:t>C/2001 Q4</a:t>
            </a:r>
            <a:r>
              <a:rPr b="1" lang="ja-JP" sz="2400" spc="-1" strike="noStrike">
                <a:solidFill>
                  <a:srgbClr val="9966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1120" y="58276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期待しましょ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370320" y="380880"/>
            <a:ext cx="213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大接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06400" y="971640"/>
            <a:ext cx="5842080" cy="5484600"/>
            <a:chOff x="1706400" y="971640"/>
            <a:chExt cx="5842080" cy="5484600"/>
          </a:xfrm>
        </p:grpSpPr>
        <p:pic>
          <p:nvPicPr>
            <p:cNvPr id="302" name="1999-27-e-full_jpg" descr=""/>
            <p:cNvPicPr/>
            <p:nvPr/>
          </p:nvPicPr>
          <p:blipFill>
            <a:blip r:embed="rId1"/>
            <a:stretch/>
          </p:blipFill>
          <p:spPr>
            <a:xfrm>
              <a:off x="1706400" y="971640"/>
              <a:ext cx="5484960" cy="54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3781440" y="597852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ja-JP" sz="1600" spc="-1" strike="noStrike">
                  <a:solidFill>
                    <a:srgbClr val="ffffff"/>
                  </a:solidFill>
                  <a:latin typeface="Times New Roman"/>
                </a:rPr>
                <a:t>ハッブル宇宙望遠鏡撮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370320" y="380880"/>
            <a:ext cx="213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大接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71600" y="1289160"/>
            <a:ext cx="8229600" cy="4588560"/>
            <a:chOff x="471600" y="1289160"/>
            <a:chExt cx="8229600" cy="4588560"/>
          </a:xfrm>
        </p:grpSpPr>
        <p:pic>
          <p:nvPicPr>
            <p:cNvPr id="306" name="1999-27-f-full_jpg" descr=""/>
            <p:cNvPicPr/>
            <p:nvPr/>
          </p:nvPicPr>
          <p:blipFill>
            <a:blip r:embed="rId1"/>
            <a:stretch/>
          </p:blipFill>
          <p:spPr>
            <a:xfrm>
              <a:off x="471600" y="1289160"/>
              <a:ext cx="82296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906640" y="5418000"/>
              <a:ext cx="352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ハッブル宇宙望遠鏡撮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mercurie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1147680" cy="1025640"/>
          </a:xfrm>
          <a:prstGeom prst="rect">
            <a:avLst/>
          </a:prstGeom>
          <a:ln w="0">
            <a:noFill/>
          </a:ln>
        </p:spPr>
      </p:pic>
      <p:pic>
        <p:nvPicPr>
          <p:cNvPr id="309" name="vinus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1119240" cy="1004760"/>
          </a:xfrm>
          <a:prstGeom prst="rect">
            <a:avLst/>
          </a:prstGeom>
          <a:ln w="0">
            <a:noFill/>
          </a:ln>
        </p:spPr>
      </p:pic>
      <p:pic>
        <p:nvPicPr>
          <p:cNvPr id="310" name="earth_moon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1119240" cy="1004760"/>
          </a:xfrm>
          <a:prstGeom prst="rect">
            <a:avLst/>
          </a:prstGeom>
          <a:ln w="0">
            <a:noFill/>
          </a:ln>
        </p:spPr>
      </p:pic>
      <p:pic>
        <p:nvPicPr>
          <p:cNvPr id="311" name="mars" descr=""/>
          <p:cNvPicPr/>
          <p:nvPr/>
        </p:nvPicPr>
        <p:blipFill>
          <a:blip r:embed="rId4"/>
          <a:stretch/>
        </p:blipFill>
        <p:spPr>
          <a:xfrm>
            <a:off x="304920" y="5257800"/>
            <a:ext cx="1057320" cy="933480"/>
          </a:xfrm>
          <a:prstGeom prst="rect">
            <a:avLst/>
          </a:prstGeom>
          <a:ln w="0">
            <a:noFill/>
          </a:ln>
        </p:spPr>
      </p:pic>
      <p:pic>
        <p:nvPicPr>
          <p:cNvPr id="312" name="jupiter" descr=""/>
          <p:cNvPicPr/>
          <p:nvPr/>
        </p:nvPicPr>
        <p:blipFill>
          <a:blip r:embed="rId5"/>
          <a:stretch/>
        </p:blipFill>
        <p:spPr>
          <a:xfrm>
            <a:off x="1752480" y="5257800"/>
            <a:ext cx="982800" cy="932040"/>
          </a:xfrm>
          <a:prstGeom prst="rect">
            <a:avLst/>
          </a:prstGeom>
          <a:ln w="0">
            <a:noFill/>
          </a:ln>
        </p:spPr>
      </p:pic>
      <p:pic>
        <p:nvPicPr>
          <p:cNvPr id="313" name="saturn" descr=""/>
          <p:cNvPicPr/>
          <p:nvPr/>
        </p:nvPicPr>
        <p:blipFill>
          <a:blip r:embed="rId6"/>
          <a:stretch/>
        </p:blipFill>
        <p:spPr>
          <a:xfrm>
            <a:off x="2971800" y="5257800"/>
            <a:ext cx="1144440" cy="911160"/>
          </a:xfrm>
          <a:prstGeom prst="rect">
            <a:avLst/>
          </a:prstGeom>
          <a:ln w="0">
            <a:noFill/>
          </a:ln>
        </p:spPr>
      </p:pic>
      <p:pic>
        <p:nvPicPr>
          <p:cNvPr id="314" name="uranus" descr=""/>
          <p:cNvPicPr/>
          <p:nvPr/>
        </p:nvPicPr>
        <p:blipFill>
          <a:blip r:embed="rId7"/>
          <a:stretch/>
        </p:blipFill>
        <p:spPr>
          <a:xfrm>
            <a:off x="4343400" y="5181480"/>
            <a:ext cx="1065240" cy="998640"/>
          </a:xfrm>
          <a:prstGeom prst="rect">
            <a:avLst/>
          </a:prstGeom>
          <a:ln w="0">
            <a:noFill/>
          </a:ln>
        </p:spPr>
      </p:pic>
      <p:pic>
        <p:nvPicPr>
          <p:cNvPr id="315" name="neptune" descr=""/>
          <p:cNvPicPr/>
          <p:nvPr/>
        </p:nvPicPr>
        <p:blipFill>
          <a:blip r:embed="rId8"/>
          <a:stretch/>
        </p:blipFill>
        <p:spPr>
          <a:xfrm>
            <a:off x="5562720" y="5257800"/>
            <a:ext cx="1036440" cy="893880"/>
          </a:xfrm>
          <a:prstGeom prst="rect">
            <a:avLst/>
          </a:prstGeom>
          <a:ln w="0">
            <a:noFill/>
          </a:ln>
        </p:spPr>
      </p:pic>
      <p:pic>
        <p:nvPicPr>
          <p:cNvPr id="316" name="pluto" descr=""/>
          <p:cNvPicPr/>
          <p:nvPr/>
        </p:nvPicPr>
        <p:blipFill>
          <a:blip r:embed="rId9"/>
          <a:stretch/>
        </p:blipFill>
        <p:spPr>
          <a:xfrm>
            <a:off x="6705720" y="5257800"/>
            <a:ext cx="993600" cy="9064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33520" y="21337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水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35053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48769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6172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火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6172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木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6095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土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6095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天王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6095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海王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05720" y="60958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冥王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惑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772400" y="3581280"/>
            <a:ext cx="1219320" cy="1465920"/>
            <a:chOff x="7772400" y="3581280"/>
            <a:chExt cx="1219320" cy="1465920"/>
          </a:xfrm>
        </p:grpSpPr>
        <p:sp>
          <p:nvSpPr>
            <p:cNvPr id="328" name=""/>
            <p:cNvSpPr/>
            <p:nvPr/>
          </p:nvSpPr>
          <p:spPr>
            <a:xfrm>
              <a:off x="7772400" y="3581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Times New Roman"/>
                </a:rPr>
                <a:t>小惑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7240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イカル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24680" y="434340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セレ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48720" y="46483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他多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848720" y="990720"/>
            <a:ext cx="1143000" cy="2303640"/>
            <a:chOff x="7848720" y="990720"/>
            <a:chExt cx="1143000" cy="2303640"/>
          </a:xfrm>
        </p:grpSpPr>
        <p:sp>
          <p:nvSpPr>
            <p:cNvPr id="333" name=""/>
            <p:cNvSpPr/>
            <p:nvPr/>
          </p:nvSpPr>
          <p:spPr>
            <a:xfrm>
              <a:off x="7848720" y="990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Times New Roman"/>
                </a:rPr>
                <a:t>衛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77320" y="1447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01000" y="18288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イ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66880" y="213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トリト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01000" y="25146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カロ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24680" y="28954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他多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370320" y="380880"/>
            <a:ext cx="213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大接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52480" y="1143000"/>
            <a:ext cx="5973840" cy="4054320"/>
            <a:chOff x="1752480" y="1143000"/>
            <a:chExt cx="5973840" cy="4054320"/>
          </a:xfrm>
        </p:grpSpPr>
        <p:pic>
          <p:nvPicPr>
            <p:cNvPr id="341" name="solar_system" descr=""/>
            <p:cNvPicPr/>
            <p:nvPr/>
          </p:nvPicPr>
          <p:blipFill>
            <a:blip r:embed="rId10"/>
            <a:srcRect l="18505" t="10176" r="14359" b="25226"/>
            <a:stretch/>
          </p:blipFill>
          <p:spPr>
            <a:xfrm>
              <a:off x="1752480" y="1143000"/>
              <a:ext cx="597384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199120" y="114624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太陽系の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370320" y="380880"/>
            <a:ext cx="213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大接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1999-27-e-full_jpg" descr=""/>
          <p:cNvPicPr/>
          <p:nvPr/>
        </p:nvPicPr>
        <p:blipFill>
          <a:blip r:embed="rId1"/>
          <a:stretch/>
        </p:blipFill>
        <p:spPr>
          <a:xfrm>
            <a:off x="723960" y="1163520"/>
            <a:ext cx="3109680" cy="31100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052880" y="1131840"/>
            <a:ext cx="29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：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Mars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（マー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81560" y="1623960"/>
            <a:ext cx="34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太陽系第４番目の惑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08560" y="217008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直径：地球の半分（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6800 km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06760" y="2646360"/>
            <a:ext cx="39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重さ：地球の約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37000" y="3192480"/>
            <a:ext cx="37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太陽からの距離：           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 約２億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万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55680" y="4925880"/>
            <a:ext cx="52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二つの衛星フォボスとダイモスを持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55920" y="5540400"/>
            <a:ext cx="64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今年（２００３年）夏、地球に約５万７５００年ぶりに近づく大接近となっ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81240" y="4383000"/>
            <a:ext cx="48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わずかだ空気があり、季節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370320" y="380880"/>
            <a:ext cx="2130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大接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030480" y="3191040"/>
            <a:ext cx="914400" cy="815040"/>
            <a:chOff x="3030480" y="3191040"/>
            <a:chExt cx="914400" cy="815040"/>
          </a:xfrm>
        </p:grpSpPr>
        <p:sp>
          <p:nvSpPr>
            <p:cNvPr id="355" name=""/>
            <p:cNvSpPr/>
            <p:nvPr/>
          </p:nvSpPr>
          <p:spPr>
            <a:xfrm>
              <a:off x="3249720" y="3191040"/>
              <a:ext cx="382680" cy="39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30480" y="3546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太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624640" y="3286080"/>
            <a:ext cx="1658880" cy="290520"/>
            <a:chOff x="5624640" y="3286080"/>
            <a:chExt cx="1658880" cy="290520"/>
          </a:xfrm>
        </p:grpSpPr>
        <p:sp>
          <p:nvSpPr>
            <p:cNvPr id="358" name=""/>
            <p:cNvSpPr/>
            <p:nvPr/>
          </p:nvSpPr>
          <p:spPr>
            <a:xfrm>
              <a:off x="5624640" y="3317760"/>
              <a:ext cx="244440" cy="258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39080" y="3286080"/>
              <a:ext cx="244440" cy="258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08680" y="3465360"/>
              <a:ext cx="110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542960" y="3335400"/>
            <a:ext cx="743040" cy="264960"/>
            <a:chOff x="1542960" y="3335400"/>
            <a:chExt cx="743040" cy="264960"/>
          </a:xfrm>
        </p:grpSpPr>
        <p:sp>
          <p:nvSpPr>
            <p:cNvPr id="362" name=""/>
            <p:cNvSpPr/>
            <p:nvPr/>
          </p:nvSpPr>
          <p:spPr>
            <a:xfrm>
              <a:off x="2041560" y="3341520"/>
              <a:ext cx="244440" cy="258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42960" y="3335400"/>
              <a:ext cx="244440" cy="258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44480" y="3478320"/>
              <a:ext cx="49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687920" y="4629240"/>
            <a:ext cx="466200" cy="919080"/>
            <a:chOff x="4687920" y="4629240"/>
            <a:chExt cx="466200" cy="919080"/>
          </a:xfrm>
        </p:grpSpPr>
        <p:sp>
          <p:nvSpPr>
            <p:cNvPr id="366" name=""/>
            <p:cNvSpPr/>
            <p:nvPr/>
          </p:nvSpPr>
          <p:spPr>
            <a:xfrm>
              <a:off x="4687920" y="4629240"/>
              <a:ext cx="244080" cy="258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09680" y="5289480"/>
              <a:ext cx="244440" cy="258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19320" y="4802040"/>
              <a:ext cx="190080" cy="55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009800" y="5881680"/>
            <a:ext cx="66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地球も火星も楕円を描いて太陽を回っ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173320" y="1994040"/>
            <a:ext cx="3618000" cy="2922480"/>
            <a:chOff x="2173320" y="1994040"/>
            <a:chExt cx="3618000" cy="2922480"/>
          </a:xfrm>
        </p:grpSpPr>
        <p:sp>
          <p:nvSpPr>
            <p:cNvPr id="371" name=""/>
            <p:cNvSpPr/>
            <p:nvPr/>
          </p:nvSpPr>
          <p:spPr>
            <a:xfrm>
              <a:off x="2173320" y="1994040"/>
              <a:ext cx="3618000" cy="29224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41600" y="2049480"/>
              <a:ext cx="11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地球の通り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14280" y="1432080"/>
            <a:ext cx="5951520" cy="4054320"/>
            <a:chOff x="1214280" y="1432080"/>
            <a:chExt cx="5951520" cy="4054320"/>
          </a:xfrm>
        </p:grpSpPr>
        <p:sp>
          <p:nvSpPr>
            <p:cNvPr id="374" name=""/>
            <p:cNvSpPr/>
            <p:nvPr/>
          </p:nvSpPr>
          <p:spPr>
            <a:xfrm>
              <a:off x="1638360" y="1447920"/>
              <a:ext cx="5527440" cy="4038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14280" y="1432080"/>
              <a:ext cx="125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火星の通り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82680" y="380880"/>
            <a:ext cx="4748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と地球外生命～火星隕石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884840" y="3328920"/>
            <a:ext cx="3686040" cy="3140280"/>
            <a:chOff x="4884840" y="3328920"/>
            <a:chExt cx="3686040" cy="3140280"/>
          </a:xfrm>
        </p:grpSpPr>
        <p:sp>
          <p:nvSpPr>
            <p:cNvPr id="378" name=""/>
            <p:cNvSpPr/>
            <p:nvPr/>
          </p:nvSpPr>
          <p:spPr>
            <a:xfrm>
              <a:off x="4884840" y="3328920"/>
              <a:ext cx="3686040" cy="3140280"/>
            </a:xfrm>
            <a:prstGeom prst="wedgeEllipseCallout">
              <a:avLst>
                <a:gd name="adj1" fmla="val -64254"/>
                <a:gd name="adj2" fmla="val -424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9" name="313B" descr=""/>
            <p:cNvPicPr/>
            <p:nvPr/>
          </p:nvPicPr>
          <p:blipFill>
            <a:blip r:embed="rId1"/>
            <a:stretch/>
          </p:blipFill>
          <p:spPr>
            <a:xfrm>
              <a:off x="5370480" y="3965400"/>
              <a:ext cx="2743200" cy="187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0" name="312A" descr=""/>
          <p:cNvPicPr/>
          <p:nvPr/>
        </p:nvPicPr>
        <p:blipFill>
          <a:blip r:embed="rId2"/>
          <a:stretch/>
        </p:blipFill>
        <p:spPr>
          <a:xfrm>
            <a:off x="695160" y="1405080"/>
            <a:ext cx="3657600" cy="3035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422600" y="1376280"/>
            <a:ext cx="399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４５億年前の火星から地球に落ちて来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そしてその中には生物状の物体が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3840" y="5595840"/>
            <a:ext cx="45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どうやら超高温による効果らし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28600"/>
            <a:ext cx="1905120" cy="5814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304920"/>
            <a:ext cx="8305920" cy="3484440"/>
            <a:chOff x="380880" y="304920"/>
            <a:chExt cx="8305920" cy="3484440"/>
          </a:xfrm>
        </p:grpSpPr>
        <p:pic>
          <p:nvPicPr>
            <p:cNvPr id="52" name="dance" descr=""/>
            <p:cNvPicPr/>
            <p:nvPr/>
          </p:nvPicPr>
          <p:blipFill>
            <a:blip r:embed="rId1"/>
            <a:stretch/>
          </p:blipFill>
          <p:spPr>
            <a:xfrm>
              <a:off x="380880" y="990720"/>
              <a:ext cx="3994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590920" y="30492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008000"/>
                  </a:solidFill>
                  <a:latin typeface="Times New Roman"/>
                </a:rPr>
                <a:t>本名： 西浦 慎悟 </a:t>
              </a:r>
              <a:r>
                <a:rPr b="1" lang="ja-JP" sz="3200" spc="-1" strike="noStrike">
                  <a:solidFill>
                    <a:srgbClr val="008000"/>
                  </a:solidFill>
                  <a:latin typeface="Times New Roman"/>
                </a:rPr>
                <a:t>(</a:t>
              </a:r>
              <a:r>
                <a:rPr b="1" lang="ja-JP" sz="3200" spc="-1" strike="noStrike">
                  <a:solidFill>
                    <a:srgbClr val="008000"/>
                  </a:solidFill>
                  <a:latin typeface="Times New Roman"/>
                </a:rPr>
                <a:t>にしうら・しんご</a:t>
              </a:r>
              <a:r>
                <a:rPr b="1" lang="ja-JP" sz="32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529160" y="952560"/>
            <a:ext cx="3809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1971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昭和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)1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日     　　　　　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PM10:00    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誕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29160" y="1828800"/>
            <a:ext cx="419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ff6600"/>
                </a:solidFill>
                <a:latin typeface="Times New Roman"/>
              </a:rPr>
              <a:t>大阪出身 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現在</a:t>
            </a:r>
            <a:r>
              <a:rPr b="1" lang="ja-JP" sz="26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ja-JP" sz="2600" spc="-1" strike="noStrike">
                <a:solidFill>
                  <a:srgbClr val="ff0000"/>
                </a:solidFill>
                <a:latin typeface="Times New Roman"/>
              </a:rPr>
              <a:t>才と</a:t>
            </a:r>
            <a:r>
              <a:rPr b="1" lang="ja-JP" sz="2600" spc="-1" strike="noStrike">
                <a:solidFill>
                  <a:srgbClr val="ff0000"/>
                </a:solidFill>
                <a:latin typeface="Times New Roman"/>
              </a:rPr>
              <a:t>57</a:t>
            </a:r>
            <a:r>
              <a:rPr b="1" lang="ja-JP" sz="2600" spc="-1" strike="noStrike">
                <a:solidFill>
                  <a:srgbClr val="ff0000"/>
                </a:solidFill>
                <a:latin typeface="Times New Roman"/>
              </a:rPr>
              <a:t>ケ月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29160" y="2820960"/>
            <a:ext cx="395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00ff"/>
                </a:solidFill>
                <a:latin typeface="Times New Roman"/>
              </a:rPr>
              <a:t>中学３年生頃：　　　　　　　　　　　　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天文学者を志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29160" y="2324160"/>
            <a:ext cx="40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00ff"/>
                </a:solidFill>
                <a:latin typeface="Times New Roman"/>
              </a:rPr>
              <a:t>小中学生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を</a:t>
            </a:r>
            <a:r>
              <a:rPr b="1" lang="ja-JP" sz="2600" spc="-1" strike="noStrike">
                <a:solidFill>
                  <a:srgbClr val="ff6600"/>
                </a:solidFill>
                <a:latin typeface="Times New Roman"/>
              </a:rPr>
              <a:t>仙台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で過ご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87036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00ff"/>
                </a:solidFill>
                <a:latin typeface="Times New Roman"/>
              </a:rPr>
              <a:t>高校生：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東北大学理学部を目指すも、一浪したがかなわ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960" y="4378320"/>
            <a:ext cx="548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00ff"/>
                </a:solidFill>
                <a:latin typeface="Times New Roman"/>
              </a:rPr>
              <a:t>大学：</a:t>
            </a: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 関西学院大学理学部物理学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440" y="4773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卒業研究は</a:t>
            </a:r>
            <a:r>
              <a:rPr b="1" lang="ja-JP" sz="2400" spc="-1" strike="noStrike">
                <a:solidFill>
                  <a:srgbClr val="ff6600"/>
                </a:solidFill>
                <a:latin typeface="Times New Roman"/>
              </a:rPr>
              <a:t>生物物理学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で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「タンバク質の構造安定性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080" y="521352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大学院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東北大学大学院理学系研究科天文学専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1280" y="5603760"/>
            <a:ext cx="71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2001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年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月～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東京大学 木曽観測所 非常勤研究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6018120"/>
            <a:ext cx="82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2003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年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月～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東京学芸大学教育学部地学科助手として着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182680" y="380880"/>
            <a:ext cx="4748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と地球外生命～人面岩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289160" y="1098720"/>
            <a:ext cx="6350040" cy="5174280"/>
            <a:chOff x="1289160" y="1098720"/>
            <a:chExt cx="6350040" cy="5174280"/>
          </a:xfrm>
        </p:grpSpPr>
        <p:pic>
          <p:nvPicPr>
            <p:cNvPr id="385" name="picture1" descr=""/>
            <p:cNvPicPr/>
            <p:nvPr/>
          </p:nvPicPr>
          <p:blipFill>
            <a:blip r:embed="rId1"/>
            <a:stretch/>
          </p:blipFill>
          <p:spPr>
            <a:xfrm>
              <a:off x="1289160" y="1098720"/>
              <a:ext cx="6350040" cy="46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579760" y="5813280"/>
              <a:ext cx="390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火星探査船バイキング撮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182680" y="380880"/>
            <a:ext cx="4748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と地球外生命～人面岩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36560" y="1301760"/>
            <a:ext cx="2075040" cy="2508480"/>
            <a:chOff x="736560" y="1301760"/>
            <a:chExt cx="2075040" cy="2508480"/>
          </a:xfrm>
        </p:grpSpPr>
        <p:pic>
          <p:nvPicPr>
            <p:cNvPr id="389" name="picture1" descr=""/>
            <p:cNvPicPr/>
            <p:nvPr/>
          </p:nvPicPr>
          <p:blipFill>
            <a:blip r:embed="rId1"/>
            <a:srcRect l="42746" t="13366" r="36283" b="54778"/>
            <a:stretch/>
          </p:blipFill>
          <p:spPr>
            <a:xfrm>
              <a:off x="811080" y="1301760"/>
              <a:ext cx="17956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36560" y="341136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バイキング撮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592360" y="1290600"/>
            <a:ext cx="5227560" cy="4239000"/>
            <a:chOff x="2592360" y="1290600"/>
            <a:chExt cx="5227560" cy="4239000"/>
          </a:xfrm>
        </p:grpSpPr>
        <p:grpSp>
          <p:nvGrpSpPr>
            <p:cNvPr id="392" name=""/>
            <p:cNvGrpSpPr/>
            <p:nvPr/>
          </p:nvGrpSpPr>
          <p:grpSpPr>
            <a:xfrm>
              <a:off x="2592360" y="1290600"/>
              <a:ext cx="5227560" cy="3888000"/>
              <a:chOff x="2592360" y="1290600"/>
              <a:chExt cx="5227560" cy="3888000"/>
            </a:xfrm>
          </p:grpSpPr>
          <p:pic>
            <p:nvPicPr>
              <p:cNvPr id="393" name="picture3" descr=""/>
              <p:cNvPicPr/>
              <p:nvPr/>
            </p:nvPicPr>
            <p:blipFill>
              <a:blip r:embed="rId2"/>
              <a:stretch/>
            </p:blipFill>
            <p:spPr>
              <a:xfrm>
                <a:off x="4624560" y="1290600"/>
                <a:ext cx="3195360" cy="3888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394" name=""/>
              <p:cNvSpPr/>
              <p:nvPr/>
            </p:nvSpPr>
            <p:spPr>
              <a:xfrm flipV="1">
                <a:off x="2592360" y="1294920"/>
                <a:ext cx="20210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92360" y="3301920"/>
                <a:ext cx="2033640" cy="1843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064120" y="5130720"/>
              <a:ext cx="245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マーズ・グローバル・サーベイヤー撮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23720" y="522612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結局光と影のイタズラで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088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１９３８年１０月３０日 アメリ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1981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人の乗った宇宙船がニュージャージー州に着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514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宇宙船からの怪光線で多くの戦車やビル、人間が蒸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ラジオから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アメリカ中、大騒ぎになっ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29718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宇宙船はつぎつぎと世界中にちゃくりくしてい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kaseijin" descr=""/>
          <p:cNvPicPr/>
          <p:nvPr/>
        </p:nvPicPr>
        <p:blipFill>
          <a:blip r:embed="rId1"/>
          <a:stretch/>
        </p:blipFill>
        <p:spPr>
          <a:xfrm>
            <a:off x="3809880" y="3581280"/>
            <a:ext cx="1230480" cy="2076480"/>
          </a:xfrm>
          <a:prstGeom prst="rect">
            <a:avLst/>
          </a:prstGeom>
          <a:ln w="0">
            <a:noFill/>
          </a:ln>
        </p:spPr>
      </p:pic>
      <p:pic>
        <p:nvPicPr>
          <p:cNvPr id="405" name="kaseijin" descr=""/>
          <p:cNvPicPr/>
          <p:nvPr/>
        </p:nvPicPr>
        <p:blipFill>
          <a:blip r:embed="rId2"/>
          <a:stretch/>
        </p:blipFill>
        <p:spPr>
          <a:xfrm>
            <a:off x="2133720" y="3581280"/>
            <a:ext cx="1226880" cy="2068560"/>
          </a:xfrm>
          <a:prstGeom prst="rect">
            <a:avLst/>
          </a:prstGeom>
          <a:ln w="0">
            <a:noFill/>
          </a:ln>
        </p:spPr>
      </p:pic>
      <p:pic>
        <p:nvPicPr>
          <p:cNvPr id="406" name="kaseijin" descr=""/>
          <p:cNvPicPr/>
          <p:nvPr/>
        </p:nvPicPr>
        <p:blipFill>
          <a:blip r:embed="rId3"/>
          <a:stretch/>
        </p:blipFill>
        <p:spPr>
          <a:xfrm>
            <a:off x="5562720" y="3581280"/>
            <a:ext cx="1226880" cy="2068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978200" y="380880"/>
            <a:ext cx="555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と地球外生命～火星人のウワサ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762120" y="990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実はウェルズという作家のＳＦ小説のラジオドラマだっ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1447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なぜ多くのアメリカ人は信じてしまったのでしょう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89000" y="54039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スキャパレリ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イタリア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に多くのスジを発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03400" y="580716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ローウェル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アメリカ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これは火星人が作った運河だ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828800" y="1905120"/>
            <a:ext cx="3411360" cy="3484440"/>
            <a:chOff x="1828800" y="1905120"/>
            <a:chExt cx="3411360" cy="3484440"/>
          </a:xfrm>
        </p:grpSpPr>
        <p:pic>
          <p:nvPicPr>
            <p:cNvPr id="413" name="mars_canal" descr=""/>
            <p:cNvPicPr/>
            <p:nvPr/>
          </p:nvPicPr>
          <p:blipFill>
            <a:blip r:embed="rId1"/>
            <a:srcRect l="5493" t="3352" r="0" b="5931"/>
            <a:stretch/>
          </p:blipFill>
          <p:spPr>
            <a:xfrm>
              <a:off x="1828800" y="1905120"/>
              <a:ext cx="3411360" cy="34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666880" y="4876920"/>
              <a:ext cx="190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ff"/>
                  </a:solidFill>
                  <a:latin typeface="Times New Roman"/>
                </a:rPr>
                <a:t>火星のスケッ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5" name="mars" descr=""/>
          <p:cNvPicPr/>
          <p:nvPr/>
        </p:nvPicPr>
        <p:blipFill>
          <a:blip r:embed="rId2"/>
          <a:stretch/>
        </p:blipFill>
        <p:spPr>
          <a:xfrm>
            <a:off x="5486400" y="2590920"/>
            <a:ext cx="2760840" cy="2438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978200" y="380880"/>
            <a:ext cx="555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火星と地球外生命～火星人のウワサ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5160" y="6210360"/>
            <a:ext cx="75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実は火星の運河も光と影のイタズラだっ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125880" y="3233880"/>
            <a:ext cx="21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火星大接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39920" y="233352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流星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37040" y="2781360"/>
            <a:ext cx="11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彗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39920" y="188280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9900"/>
                </a:solidFill>
                <a:latin typeface="Times New Roman"/>
              </a:rPr>
              <a:t>1. </a:t>
            </a:r>
            <a:r>
              <a:rPr b="1" lang="ja-JP" sz="2400" spc="-1" strike="noStrike">
                <a:solidFill>
                  <a:srgbClr val="009900"/>
                </a:solidFill>
                <a:latin typeface="Times New Roman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27360" y="1023840"/>
            <a:ext cx="25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思い出に残る天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60400" y="3984480"/>
            <a:ext cx="5267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次は</a:t>
            </a:r>
            <a:r>
              <a:rPr b="1" lang="ja-JP" sz="2400" spc="-1" strike="noStrike">
                <a:solidFill>
                  <a:srgbClr val="9900cc"/>
                </a:solidFill>
                <a:latin typeface="Times New Roman"/>
              </a:rPr>
              <a:t>１１月のしし座流星群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900cc"/>
                </a:solidFill>
                <a:latin typeface="Times New Roman"/>
              </a:rPr>
              <a:t>　　　１２月のペルセウス座流星群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ja-JP" sz="2400" spc="-1" strike="noStrike">
                <a:solidFill>
                  <a:srgbClr val="ff6600"/>
                </a:solidFill>
                <a:latin typeface="Times New Roman"/>
              </a:rPr>
              <a:t>来年春のニート彗星＆リニア彗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がおすすめで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304920"/>
            <a:ext cx="6019560" cy="5814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</a:rPr>
              <a:t>東京大学木曽観測所～所在地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981080" y="2590920"/>
            <a:ext cx="4267440" cy="3728880"/>
            <a:chOff x="1981080" y="2590920"/>
            <a:chExt cx="4267440" cy="3728880"/>
          </a:xfrm>
        </p:grpSpPr>
        <p:pic>
          <p:nvPicPr>
            <p:cNvPr id="66" name="map_kisoobs" descr=""/>
            <p:cNvPicPr/>
            <p:nvPr/>
          </p:nvPicPr>
          <p:blipFill>
            <a:blip r:embed="rId1"/>
            <a:stretch/>
          </p:blipFill>
          <p:spPr>
            <a:xfrm>
              <a:off x="2362320" y="2590920"/>
              <a:ext cx="3789360" cy="37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981080" y="35053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3333cc"/>
                  </a:solidFill>
                  <a:latin typeface="Times New Roman"/>
                </a:rPr>
                <a:t>王滝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4038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3333cc"/>
                  </a:solidFill>
                  <a:latin typeface="Times New Roman"/>
                </a:rPr>
                <a:t>三岳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62520" y="50292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3333cc"/>
                  </a:solidFill>
                  <a:latin typeface="Times New Roman"/>
                </a:rPr>
                <a:t>上松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3124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3333cc"/>
                  </a:solidFill>
                  <a:latin typeface="Times New Roman"/>
                </a:rPr>
                <a:t>木曽福島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562720" y="4343400"/>
            <a:ext cx="2971800" cy="990720"/>
            <a:chOff x="5562720" y="4343400"/>
            <a:chExt cx="2971800" cy="990720"/>
          </a:xfrm>
        </p:grpSpPr>
        <p:sp>
          <p:nvSpPr>
            <p:cNvPr id="72" name=""/>
            <p:cNvSpPr/>
            <p:nvPr/>
          </p:nvSpPr>
          <p:spPr>
            <a:xfrm>
              <a:off x="7238880" y="43434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JR</a:t>
              </a: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上松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62720" y="4572000"/>
              <a:ext cx="167616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14640" y="2133720"/>
            <a:ext cx="3048480" cy="914400"/>
            <a:chOff x="5714640" y="2133720"/>
            <a:chExt cx="3048480" cy="914400"/>
          </a:xfrm>
        </p:grpSpPr>
        <p:sp>
          <p:nvSpPr>
            <p:cNvPr id="75" name=""/>
            <p:cNvSpPr/>
            <p:nvPr/>
          </p:nvSpPr>
          <p:spPr>
            <a:xfrm>
              <a:off x="6858000" y="21337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JR</a:t>
              </a:r>
              <a:r>
                <a:rPr b="1" lang="ja-JP" sz="2000" spc="-1" strike="noStrike">
                  <a:solidFill>
                    <a:srgbClr val="ff0000"/>
                  </a:solidFill>
                  <a:latin typeface="Times New Roman"/>
                </a:rPr>
                <a:t>木曽福島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714640" y="2362320"/>
              <a:ext cx="11430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990720" y="1981080"/>
            <a:ext cx="1904760" cy="914400"/>
            <a:chOff x="990720" y="1981080"/>
            <a:chExt cx="1904760" cy="914400"/>
          </a:xfrm>
        </p:grpSpPr>
        <p:sp>
          <p:nvSpPr>
            <p:cNvPr id="78" name=""/>
            <p:cNvSpPr/>
            <p:nvPr/>
          </p:nvSpPr>
          <p:spPr>
            <a:xfrm>
              <a:off x="990720" y="1981080"/>
              <a:ext cx="190476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47560" y="2438280"/>
              <a:ext cx="1142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200" spc="-1" strike="noStrike">
                  <a:solidFill>
                    <a:srgbClr val="ff0000"/>
                  </a:solidFill>
                  <a:latin typeface="Times New Roman"/>
                </a:rPr>
                <a:t>御岳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486040" y="3429000"/>
            <a:ext cx="3124440" cy="990720"/>
            <a:chOff x="5486040" y="3429000"/>
            <a:chExt cx="3124440" cy="990720"/>
          </a:xfrm>
        </p:grpSpPr>
        <p:sp>
          <p:nvSpPr>
            <p:cNvPr id="81" name=""/>
            <p:cNvSpPr/>
            <p:nvPr/>
          </p:nvSpPr>
          <p:spPr>
            <a:xfrm>
              <a:off x="7010280" y="34290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8000"/>
                  </a:solidFill>
                  <a:latin typeface="Times New Roman"/>
                </a:rPr>
                <a:t>国道</a:t>
              </a:r>
              <a:r>
                <a:rPr b="1" lang="ja-JP" sz="2000" spc="-1" strike="noStrike">
                  <a:solidFill>
                    <a:srgbClr val="008000"/>
                  </a:solidFill>
                  <a:latin typeface="Times New Roman"/>
                </a:rPr>
                <a:t>19</a:t>
              </a:r>
              <a:r>
                <a:rPr b="1" lang="ja-JP" sz="2000" spc="-1" strike="noStrike">
                  <a:solidFill>
                    <a:srgbClr val="008000"/>
                  </a:solidFill>
                  <a:latin typeface="Times New Roman"/>
                </a:rPr>
                <a:t>号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486040" y="3657600"/>
              <a:ext cx="1600200" cy="7621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876920" y="1371600"/>
            <a:ext cx="1218960" cy="1066680"/>
            <a:chOff x="4876920" y="1371600"/>
            <a:chExt cx="1218960" cy="1066680"/>
          </a:xfrm>
        </p:grpSpPr>
        <p:sp>
          <p:nvSpPr>
            <p:cNvPr id="84" name=""/>
            <p:cNvSpPr/>
            <p:nvPr/>
          </p:nvSpPr>
          <p:spPr>
            <a:xfrm>
              <a:off x="4876920" y="1371600"/>
              <a:ext cx="1143000" cy="10666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76920" y="1676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Times New Roman"/>
                </a:rPr>
                <a:t>木祖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276720" y="1981080"/>
            <a:ext cx="685800" cy="1219320"/>
            <a:chOff x="3276720" y="1981080"/>
            <a:chExt cx="685800" cy="1219320"/>
          </a:xfrm>
        </p:grpSpPr>
        <p:grpSp>
          <p:nvGrpSpPr>
            <p:cNvPr id="87" name=""/>
            <p:cNvGrpSpPr/>
            <p:nvPr/>
          </p:nvGrpSpPr>
          <p:grpSpPr>
            <a:xfrm>
              <a:off x="3276720" y="2286000"/>
              <a:ext cx="304920" cy="914400"/>
              <a:chOff x="3276720" y="2286000"/>
              <a:chExt cx="304920" cy="914400"/>
            </a:xfrm>
          </p:grpSpPr>
          <p:sp>
            <p:nvSpPr>
              <p:cNvPr id="88" name=""/>
              <p:cNvSpPr/>
              <p:nvPr/>
            </p:nvSpPr>
            <p:spPr>
              <a:xfrm>
                <a:off x="3429360" y="2286000"/>
                <a:ext cx="0" cy="91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3276720" y="2286000"/>
                <a:ext cx="15264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2666880"/>
                <a:ext cx="3049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4290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943600" y="5791320"/>
            <a:ext cx="2514600" cy="398880"/>
            <a:chOff x="5943600" y="5791320"/>
            <a:chExt cx="2514600" cy="398880"/>
          </a:xfrm>
        </p:grpSpPr>
        <p:sp>
          <p:nvSpPr>
            <p:cNvPr id="93" name=""/>
            <p:cNvSpPr/>
            <p:nvPr/>
          </p:nvSpPr>
          <p:spPr>
            <a:xfrm>
              <a:off x="6934320" y="579132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8000"/>
                  </a:solidFill>
                  <a:latin typeface="Times New Roman"/>
                </a:rPr>
                <a:t>JR</a:t>
              </a:r>
              <a:r>
                <a:rPr b="1" lang="ja-JP" sz="2000" spc="-1" strike="noStrike">
                  <a:solidFill>
                    <a:srgbClr val="008000"/>
                  </a:solidFill>
                  <a:latin typeface="Times New Roman"/>
                </a:rPr>
                <a:t>中央西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943600" y="5943600"/>
              <a:ext cx="990720" cy="763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0880" y="4800600"/>
            <a:ext cx="3048120" cy="1526400"/>
            <a:chOff x="380880" y="4800600"/>
            <a:chExt cx="3048120" cy="1526400"/>
          </a:xfrm>
        </p:grpSpPr>
        <p:grpSp>
          <p:nvGrpSpPr>
            <p:cNvPr id="96" name=""/>
            <p:cNvGrpSpPr/>
            <p:nvPr/>
          </p:nvGrpSpPr>
          <p:grpSpPr>
            <a:xfrm>
              <a:off x="380880" y="5410080"/>
              <a:ext cx="1904760" cy="916920"/>
              <a:chOff x="380880" y="5410080"/>
              <a:chExt cx="1904760" cy="916920"/>
            </a:xfrm>
          </p:grpSpPr>
          <p:sp>
            <p:nvSpPr>
              <p:cNvPr id="97" name=""/>
              <p:cNvSpPr/>
              <p:nvPr/>
            </p:nvSpPr>
            <p:spPr>
              <a:xfrm>
                <a:off x="380880" y="5410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ff6600"/>
                    </a:solidFill>
                    <a:latin typeface="Times New Roman"/>
                  </a:rPr>
                  <a:t>東京大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33160" y="586728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ff6600"/>
                    </a:solidFill>
                    <a:latin typeface="Times New Roman"/>
                  </a:rPr>
                  <a:t>木曽観測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flipV="1">
              <a:off x="1828800" y="4800600"/>
              <a:ext cx="1600200" cy="914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kan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615000" cy="5153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05120" y="304920"/>
            <a:ext cx="5562360" cy="5814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</a:rPr>
              <a:t>東京大学木曽観測所～全景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4920" y="3276720"/>
            <a:ext cx="5486400" cy="2761200"/>
            <a:chOff x="304920" y="3276720"/>
            <a:chExt cx="5486400" cy="2761200"/>
          </a:xfrm>
        </p:grpSpPr>
        <p:pic>
          <p:nvPicPr>
            <p:cNvPr id="103" name="105schmidt_dome" descr=""/>
            <p:cNvPicPr/>
            <p:nvPr/>
          </p:nvPicPr>
          <p:blipFill>
            <a:blip r:embed="rId2"/>
            <a:srcRect l="3496" t="0" r="0" b="10371"/>
            <a:stretch/>
          </p:blipFill>
          <p:spPr>
            <a:xfrm>
              <a:off x="304920" y="3505320"/>
              <a:ext cx="2425680" cy="1682640"/>
            </a:xfrm>
            <a:prstGeom prst="rect">
              <a:avLst/>
            </a:prstGeom>
            <a:ln w="25560">
              <a:solidFill>
                <a:srgbClr val="ff6600"/>
              </a:solidFill>
              <a:miter/>
            </a:ln>
          </p:spPr>
        </p:pic>
        <p:sp>
          <p:nvSpPr>
            <p:cNvPr id="104" name=""/>
            <p:cNvSpPr/>
            <p:nvPr/>
          </p:nvSpPr>
          <p:spPr>
            <a:xfrm>
              <a:off x="4876920" y="3276720"/>
              <a:ext cx="914400" cy="6858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3505320"/>
              <a:ext cx="2133720" cy="457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5334120"/>
              <a:ext cx="19810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9900"/>
                  </a:solidFill>
                  <a:latin typeface="Times New Roman"/>
                </a:rPr>
                <a:t>105cm</a:t>
              </a:r>
              <a:r>
                <a:rPr b="1" lang="ja-JP" sz="2000" spc="-1" strike="noStrike">
                  <a:solidFill>
                    <a:srgbClr val="ff9900"/>
                  </a:solidFill>
                  <a:latin typeface="Times New Roman"/>
                </a:rPr>
                <a:t>シュミット望遠鏡ドー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kiso105" descr=""/>
          <p:cNvPicPr/>
          <p:nvPr/>
        </p:nvPicPr>
        <p:blipFill>
          <a:blip r:embed="rId1"/>
          <a:stretch/>
        </p:blipFill>
        <p:spPr>
          <a:xfrm>
            <a:off x="2119320" y="865080"/>
            <a:ext cx="6532560" cy="4392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7400" y="5257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6600"/>
                </a:solidFill>
                <a:latin typeface="Times New Roman"/>
              </a:rPr>
              <a:t>シュミット望遠鏡としては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世界第４位</a:t>
            </a:r>
            <a:r>
              <a:rPr b="1" lang="ja-JP" sz="2400" spc="-1" strike="noStrike">
                <a:solidFill>
                  <a:srgbClr val="ff6600"/>
                </a:solidFill>
                <a:latin typeface="Times New Roman"/>
              </a:rPr>
              <a:t>の口径を持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位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: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カール・シュバルツシルト天文台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ドイツ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-134cm)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位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: 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パロマー天文台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アメリカ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-126cm)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位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: 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サイディング・スプリング天文台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オーストラリア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-124cm)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、第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位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: 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ブロ天文台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スウェーデン</a:t>
            </a:r>
            <a:r>
              <a:rPr b="1" lang="ja-JP" sz="2000" spc="-1" strike="noStrike">
                <a:solidFill>
                  <a:srgbClr val="006600"/>
                </a:solidFill>
                <a:latin typeface="Times New Roman"/>
              </a:rPr>
              <a:t>-100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60020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</a:rPr>
              <a:t>一度に</a:t>
            </a:r>
            <a:r>
              <a:rPr b="1" lang="ja-JP" sz="2200" spc="-1" strike="noStrike">
                <a:solidFill>
                  <a:srgbClr val="ff0000"/>
                </a:solidFill>
                <a:latin typeface="Times New Roman"/>
              </a:rPr>
              <a:t>広い領域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</a:rPr>
              <a:t>を撮影できる</a:t>
            </a:r>
            <a:r>
              <a:rPr b="1" lang="ja-JP" sz="2200" spc="-1" strike="noStrike">
                <a:solidFill>
                  <a:srgbClr val="008000"/>
                </a:solidFill>
                <a:latin typeface="Times New Roman"/>
              </a:rPr>
              <a:t>写真撮影専用</a:t>
            </a:r>
            <a:r>
              <a:rPr b="1" lang="ja-JP" sz="2200" spc="-1" strike="noStrike">
                <a:solidFill>
                  <a:srgbClr val="000000"/>
                </a:solidFill>
                <a:latin typeface="Times New Roman"/>
              </a:rPr>
              <a:t>の望遠鏡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2640" y="195120"/>
            <a:ext cx="8183520" cy="55080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0000ff"/>
                </a:solidFill>
                <a:latin typeface="Times New Roman"/>
              </a:rPr>
              <a:t>東京大学木曽観測所～ </a:t>
            </a:r>
            <a:r>
              <a:rPr b="1" lang="ja-JP" sz="3000" spc="-1" strike="noStrike">
                <a:solidFill>
                  <a:srgbClr val="0000ff"/>
                </a:solidFill>
                <a:latin typeface="Times New Roman"/>
              </a:rPr>
              <a:t>105cm</a:t>
            </a:r>
            <a:r>
              <a:rPr b="1" lang="ja-JP" sz="3000" spc="-1" strike="noStrike">
                <a:solidFill>
                  <a:srgbClr val="0000ff"/>
                </a:solidFill>
                <a:latin typeface="Times New Roman"/>
              </a:rPr>
              <a:t>シュミット望遠鏡～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120760" y="793800"/>
            <a:ext cx="4724280" cy="4724280"/>
            <a:chOff x="2120760" y="793800"/>
            <a:chExt cx="4724280" cy="4724280"/>
          </a:xfrm>
        </p:grpSpPr>
        <p:pic>
          <p:nvPicPr>
            <p:cNvPr id="113" name="mn970223" descr=""/>
            <p:cNvPicPr/>
            <p:nvPr/>
          </p:nvPicPr>
          <p:blipFill>
            <a:blip r:embed="rId1"/>
            <a:srcRect l="4990" t="8778" r="4990" b="11352"/>
            <a:stretch/>
          </p:blipFill>
          <p:spPr>
            <a:xfrm>
              <a:off x="2120760" y="793800"/>
              <a:ext cx="472428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128680" y="5162400"/>
              <a:ext cx="46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00"/>
                  </a:solidFill>
                  <a:latin typeface="Times New Roman"/>
                </a:rPr>
                <a:t>木曽観測所</a:t>
              </a:r>
              <a:r>
                <a:rPr b="1" lang="ja-JP" sz="1400" spc="-1" strike="noStrike">
                  <a:solidFill>
                    <a:srgbClr val="ffff00"/>
                  </a:solidFill>
                  <a:latin typeface="Times New Roman"/>
                </a:rPr>
                <a:t>105cm</a:t>
              </a:r>
              <a:r>
                <a:rPr b="1" lang="ja-JP" sz="1400" spc="-1" strike="noStrike">
                  <a:solidFill>
                    <a:srgbClr val="ffff00"/>
                  </a:solidFill>
                  <a:latin typeface="Times New Roman"/>
                </a:rPr>
                <a:t>シュミット望遠鏡で撮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189080" y="266760"/>
            <a:ext cx="65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9900"/>
                </a:solidFill>
                <a:latin typeface="Times New Roman"/>
              </a:rPr>
              <a:t>私が天文学者になるきっかけになった天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66920" y="5484960"/>
            <a:ext cx="63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幼い頃、従兄に望遠鏡で見せてもらっ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44640" y="60451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cc6600"/>
                </a:solidFill>
                <a:latin typeface="Times New Roman"/>
              </a:rPr>
              <a:t>みなさんには思い出に残る天体があります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341520" y="409680"/>
            <a:ext cx="2117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しし座流星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83240" y="1785960"/>
            <a:ext cx="4120920" cy="3987720"/>
            <a:chOff x="4683240" y="1785960"/>
            <a:chExt cx="4120920" cy="3987720"/>
          </a:xfrm>
        </p:grpSpPr>
        <p:pic>
          <p:nvPicPr>
            <p:cNvPr id="120" name="fwno13" descr=""/>
            <p:cNvPicPr/>
            <p:nvPr/>
          </p:nvPicPr>
          <p:blipFill>
            <a:blip r:embed="rId1"/>
            <a:srcRect l="15103" t="57772" r="56350" b="1009"/>
            <a:stretch/>
          </p:blipFill>
          <p:spPr>
            <a:xfrm>
              <a:off x="5121360" y="1787400"/>
              <a:ext cx="1444680" cy="33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fwno20" descr=""/>
            <p:cNvPicPr/>
            <p:nvPr/>
          </p:nvPicPr>
          <p:blipFill>
            <a:blip r:embed="rId2"/>
            <a:srcRect l="7756" t="21377" r="25073" b="-3623"/>
            <a:stretch/>
          </p:blipFill>
          <p:spPr>
            <a:xfrm>
              <a:off x="6539040" y="1785960"/>
              <a:ext cx="1773000" cy="345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"/>
            <p:cNvGrpSpPr/>
            <p:nvPr/>
          </p:nvGrpSpPr>
          <p:grpSpPr>
            <a:xfrm>
              <a:off x="4683240" y="5236920"/>
              <a:ext cx="4120920" cy="536760"/>
              <a:chOff x="4683240" y="5236920"/>
              <a:chExt cx="4120920" cy="536760"/>
            </a:xfrm>
          </p:grpSpPr>
          <p:sp>
            <p:nvSpPr>
              <p:cNvPr id="123" name=""/>
              <p:cNvSpPr/>
              <p:nvPr/>
            </p:nvSpPr>
            <p:spPr>
              <a:xfrm>
                <a:off x="4683240" y="5398920"/>
                <a:ext cx="408780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800" rIns="19800" tIns="10080" bIns="10080" anchor="t">
                <a:no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198360"/>
                    <a:tab algn="l" pos="396720"/>
                    <a:tab algn="l" pos="595440"/>
                    <a:tab algn="l" pos="793800"/>
                    <a:tab algn="l" pos="992160"/>
                    <a:tab algn="l" pos="1190520"/>
                    <a:tab algn="l" pos="1389240"/>
                    <a:tab algn="l" pos="1587600"/>
                    <a:tab algn="l" pos="1785960"/>
                    <a:tab algn="l" pos="1984320"/>
                    <a:tab algn="l" pos="2182680"/>
                    <a:tab algn="l" pos="2381400"/>
                    <a:tab algn="l" pos="2579760"/>
                    <a:tab algn="l" pos="2778120"/>
                    <a:tab algn="l" pos="2976480"/>
                    <a:tab algn="l" pos="3174840"/>
                    <a:tab algn="l" pos="3373560"/>
                    <a:tab algn="l" pos="3571920"/>
                    <a:tab algn="l" pos="3770280"/>
                    <a:tab algn="l" pos="3968640"/>
                  </a:tabLst>
                </a:pPr>
                <a:r>
                  <a:rPr b="1" lang="ja-JP" sz="2200" spc="-1" strike="noStrike">
                    <a:solidFill>
                      <a:srgbClr val="ff00ff"/>
                    </a:solidFill>
                    <a:latin typeface="Times New Roman"/>
                  </a:rPr>
                  <a:t>流星出現の直後に現れる流星痕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1400" y="5236920"/>
                <a:ext cx="4082760" cy="1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800" rIns="19800" tIns="10080" bIns="1008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198360"/>
                    <a:tab algn="l" pos="396720"/>
                    <a:tab algn="l" pos="595440"/>
                    <a:tab algn="l" pos="793800"/>
                    <a:tab algn="l" pos="992160"/>
                    <a:tab algn="l" pos="1190520"/>
                    <a:tab algn="l" pos="1389240"/>
                    <a:tab algn="l" pos="1587600"/>
                    <a:tab algn="l" pos="1785960"/>
                    <a:tab algn="l" pos="1984320"/>
                    <a:tab algn="l" pos="2182680"/>
                    <a:tab algn="l" pos="2381400"/>
                    <a:tab algn="l" pos="2579760"/>
                    <a:tab algn="l" pos="2778120"/>
                    <a:tab algn="l" pos="2976480"/>
                    <a:tab algn="l" pos="3174840"/>
                    <a:tab algn="l" pos="3373560"/>
                    <a:tab algn="l" pos="3571920"/>
                    <a:tab algn="l" pos="3770280"/>
                    <a:tab algn="l" pos="3968640"/>
                  </a:tabLst>
                </a:pPr>
                <a:r>
                  <a:rPr b="1" lang="ja-JP" sz="1200" spc="-1" strike="noStrike">
                    <a:solidFill>
                      <a:srgbClr val="ff00ff"/>
                    </a:solidFill>
                    <a:latin typeface="Times New Roman"/>
                  </a:rPr>
                  <a:t>りゅうせいしゅつげん   ちょくご        あらわ          りゅうせいこん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162400" y="4821120"/>
              <a:ext cx="322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800" rIns="19800" tIns="10080" bIns="1008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198360"/>
                  <a:tab algn="l" pos="396720"/>
                  <a:tab algn="l" pos="595440"/>
                  <a:tab algn="l" pos="793800"/>
                  <a:tab algn="l" pos="992160"/>
                  <a:tab algn="l" pos="1190520"/>
                  <a:tab algn="l" pos="1389240"/>
                  <a:tab algn="l" pos="1587600"/>
                  <a:tab algn="l" pos="1785960"/>
                  <a:tab algn="l" pos="1984320"/>
                  <a:tab algn="l" pos="2182680"/>
                  <a:tab algn="l" pos="2381400"/>
                  <a:tab algn="l" pos="2579760"/>
                  <a:tab algn="l" pos="2778120"/>
                  <a:tab algn="l" pos="2976480"/>
                  <a:tab algn="l" pos="3174840"/>
                  <a:tab algn="l" pos="3373560"/>
                  <a:tab algn="l" pos="3571920"/>
                  <a:tab algn="l" pos="3770280"/>
                  <a:tab algn="l" pos="396864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写真</a:t>
              </a: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1" lang="ja-JP" sz="1400" spc="-1" strike="noStrike">
                  <a:solidFill>
                    <a:srgbClr val="ffffff"/>
                  </a:solidFill>
                  <a:latin typeface="Times New Roman"/>
                </a:rPr>
                <a:t>東京大学学部生 藤原英明氏提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80880" y="1069920"/>
            <a:ext cx="4275360" cy="5183640"/>
            <a:chOff x="380880" y="1069920"/>
            <a:chExt cx="4275360" cy="5183640"/>
          </a:xfrm>
        </p:grpSpPr>
        <p:pic>
          <p:nvPicPr>
            <p:cNvPr id="127" name="1ji+2ji" descr=""/>
            <p:cNvPicPr/>
            <p:nvPr/>
          </p:nvPicPr>
          <p:blipFill>
            <a:blip r:embed="rId3"/>
            <a:stretch/>
          </p:blipFill>
          <p:spPr>
            <a:xfrm>
              <a:off x="380880" y="1069920"/>
              <a:ext cx="4275360" cy="43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533160" y="5565600"/>
              <a:ext cx="4114800" cy="687960"/>
              <a:chOff x="533160" y="5565600"/>
              <a:chExt cx="4114800" cy="687960"/>
            </a:xfrm>
          </p:grpSpPr>
          <p:sp>
            <p:nvSpPr>
              <p:cNvPr id="129" name=""/>
              <p:cNvSpPr/>
              <p:nvPr/>
            </p:nvSpPr>
            <p:spPr>
              <a:xfrm>
                <a:off x="533160" y="5793840"/>
                <a:ext cx="411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ff"/>
                    </a:solidFill>
                    <a:latin typeface="Times New Roman"/>
                  </a:rPr>
                  <a:t>2001</a:t>
                </a:r>
                <a:r>
                  <a:rPr b="1" lang="ja-JP" sz="2400" spc="-1" strike="noStrike">
                    <a:solidFill>
                      <a:srgbClr val="0000ff"/>
                    </a:solidFill>
                    <a:latin typeface="Times New Roman"/>
                  </a:rPr>
                  <a:t>年</a:t>
                </a:r>
                <a:r>
                  <a:rPr b="1" lang="ja-JP" sz="2400" spc="-1" strike="noStrike">
                    <a:solidFill>
                      <a:srgbClr val="0000ff"/>
                    </a:solidFill>
                    <a:latin typeface="Times New Roman"/>
                  </a:rPr>
                  <a:t>11</a:t>
                </a:r>
                <a:r>
                  <a:rPr b="1" lang="ja-JP" sz="2400" spc="-1" strike="noStrike">
                    <a:solidFill>
                      <a:srgbClr val="0000ff"/>
                    </a:solidFill>
                    <a:latin typeface="Times New Roman"/>
                  </a:rPr>
                  <a:t>月</a:t>
                </a:r>
                <a:r>
                  <a:rPr b="1" lang="ja-JP" sz="2400" spc="-1" strike="noStrike">
                    <a:solidFill>
                      <a:srgbClr val="0000ff"/>
                    </a:solidFill>
                    <a:latin typeface="Times New Roman"/>
                  </a:rPr>
                  <a:t>19</a:t>
                </a:r>
                <a:r>
                  <a:rPr b="1" lang="ja-JP" sz="2400" spc="-1" strike="noStrike">
                    <a:solidFill>
                      <a:srgbClr val="0000ff"/>
                    </a:solidFill>
                    <a:latin typeface="Times New Roman"/>
                  </a:rPr>
                  <a:t>日しし座流星群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42640" y="5565600"/>
                <a:ext cx="3505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400" spc="-1" strike="noStrike">
                    <a:solidFill>
                      <a:srgbClr val="0000ff"/>
                    </a:solidFill>
                    <a:latin typeface="Times New Roman"/>
                  </a:rPr>
                  <a:t>ねん     がつ       にち            ざりゅうせいぐ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753200" y="502740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00"/>
                  </a:solidFill>
                  <a:latin typeface="Times New Roman"/>
                </a:rPr>
                <a:t>木曽観測所全天カメラで撮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leo33139_cut" descr=""/>
          <p:cNvPicPr/>
          <p:nvPr/>
        </p:nvPicPr>
        <p:blipFill>
          <a:blip r:embed="rId1"/>
          <a:stretch/>
        </p:blipFill>
        <p:spPr>
          <a:xfrm>
            <a:off x="353880" y="1247760"/>
            <a:ext cx="4678560" cy="47070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2639880" y="1247760"/>
            <a:ext cx="6102360" cy="3809520"/>
            <a:chOff x="2639880" y="1247760"/>
            <a:chExt cx="6102360" cy="3809520"/>
          </a:xfrm>
        </p:grpSpPr>
        <p:pic>
          <p:nvPicPr>
            <p:cNvPr id="134" name="leonid_on" descr=""/>
            <p:cNvPicPr/>
            <p:nvPr/>
          </p:nvPicPr>
          <p:blipFill>
            <a:blip r:embed="rId2"/>
            <a:stretch/>
          </p:blipFill>
          <p:spPr>
            <a:xfrm>
              <a:off x="5535720" y="1247760"/>
              <a:ext cx="3206520" cy="3206880"/>
            </a:xfrm>
            <a:prstGeom prst="rect">
              <a:avLst/>
            </a:prstGeom>
            <a:ln w="31680">
              <a:solidFill>
                <a:srgbClr val="ff00ff"/>
              </a:solidFill>
              <a:miter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2639880" y="1247760"/>
              <a:ext cx="2895840" cy="3809520"/>
              <a:chOff x="2639880" y="1247760"/>
              <a:chExt cx="2895840" cy="3809520"/>
            </a:xfrm>
          </p:grpSpPr>
          <p:sp>
            <p:nvSpPr>
              <p:cNvPr id="136" name=""/>
              <p:cNvSpPr/>
              <p:nvPr/>
            </p:nvSpPr>
            <p:spPr>
              <a:xfrm>
                <a:off x="2639880" y="4676400"/>
                <a:ext cx="457200" cy="380880"/>
              </a:xfrm>
              <a:prstGeom prst="rect">
                <a:avLst/>
              </a:prstGeom>
              <a:noFill/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3097080" y="1247760"/>
                <a:ext cx="2438640" cy="342864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097080" y="4447440"/>
                <a:ext cx="2438640" cy="609480"/>
              </a:xfrm>
              <a:prstGeom prst="line">
                <a:avLst/>
              </a:prstGeom>
              <a:ln w="316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5230800" y="452448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日しし座流星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木曽観測所撮影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54480" y="528624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00ff"/>
                </a:solidFill>
                <a:latin typeface="Times New Roman"/>
              </a:rPr>
              <a:t>9-10</a:t>
            </a:r>
            <a:r>
              <a:rPr b="1" lang="ja-JP" sz="2200" spc="-1" strike="noStrike">
                <a:solidFill>
                  <a:srgbClr val="ff00ff"/>
                </a:solidFill>
                <a:latin typeface="Times New Roman"/>
              </a:rPr>
              <a:t>等級の微小流星の発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88000" y="5667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サイズ数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ミクロ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41520" y="409680"/>
            <a:ext cx="2117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しし座流星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977760" y="1128600"/>
            <a:ext cx="4595760" cy="4338000"/>
            <a:chOff x="977760" y="1128600"/>
            <a:chExt cx="4595760" cy="4338000"/>
          </a:xfrm>
        </p:grpSpPr>
        <p:sp>
          <p:nvSpPr>
            <p:cNvPr id="144" name=""/>
            <p:cNvSpPr/>
            <p:nvPr/>
          </p:nvSpPr>
          <p:spPr>
            <a:xfrm>
              <a:off x="977760" y="112860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みずがめ座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η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5/3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77760" y="2423880"/>
              <a:ext cx="39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ペルセウス座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8/7-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77760" y="3109680"/>
              <a:ext cx="39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ジャコビニ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10/8-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7760" y="3795480"/>
              <a:ext cx="459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おうし座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10/23-11/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53720" y="4405320"/>
              <a:ext cx="406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しし座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11/14-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77760" y="173808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うしかい座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6/27-7/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6720" y="5006880"/>
              <a:ext cx="41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ふたご座流星群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12/11-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432080" y="5595840"/>
            <a:ext cx="63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6600"/>
                </a:solidFill>
                <a:latin typeface="Times New Roman"/>
              </a:rPr>
              <a:t>流星群は毎年決まった時期に現れます。なぜ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1520" y="409680"/>
            <a:ext cx="2117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しし座流星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0:22:05Z</dcterms:created>
  <dc:creator>nishiura</dc:creator>
  <dc:description/>
  <dc:language>en-US</dc:language>
  <cp:lastModifiedBy>Shingo Nishiura</cp:lastModifiedBy>
  <dcterms:modified xsi:type="dcterms:W3CDTF">2003-10-29T23:59:52Z</dcterms:modified>
  <cp:revision>38</cp:revision>
  <dc:subject/>
  <dc:title>PowerPoint プレゼンテーション</dc:title>
</cp:coreProperties>
</file>