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1930-F593-4A04-B601-B2C20669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BB8C-4734-4D8B-8947-A7D84EE3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C353-BF08-4A48-92F2-76503909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201-9431-49EB-AF97-C3AE7D70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1918-6117-44BE-A7DE-F8386A86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A5C-BBE6-49BF-99C7-D78B077A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5EC-C449-4AED-AC7B-DF89732E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B31F-C87D-4244-8FEB-B918F520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2D7-158B-4928-A3FD-5C1871A8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92F9-0C96-4C4A-96AE-9CE4E0FA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4AC8-0E30-434E-B5D1-B1E60F2A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952-9611-45A1-85C0-A18B6410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9373-5881-4C41-A1A0-1284532529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9520" y="4572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33cc"/>
                </a:solidFill>
                <a:latin typeface="Times New Roman"/>
              </a:rPr>
              <a:t>２００３年８月１１日（月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52480" y="1066680"/>
            <a:ext cx="6019920" cy="1755360"/>
            <a:chOff x="1752480" y="1066680"/>
            <a:chExt cx="6019920" cy="1755360"/>
          </a:xfrm>
        </p:grpSpPr>
        <p:sp>
          <p:nvSpPr>
            <p:cNvPr id="43" name=""/>
            <p:cNvSpPr/>
            <p:nvPr/>
          </p:nvSpPr>
          <p:spPr>
            <a:xfrm>
              <a:off x="2209680" y="1066680"/>
              <a:ext cx="4953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400" spc="-1" strike="noStrike">
                  <a:solidFill>
                    <a:srgbClr val="3399ff"/>
                  </a:solidFill>
                  <a:latin typeface="Times New Roman"/>
                </a:rPr>
                <a:t>銀河と宇宙に関する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52480" y="1905120"/>
              <a:ext cx="6019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5400" spc="-1" strike="noStrike">
                  <a:solidFill>
                    <a:srgbClr val="0000ff"/>
                  </a:solidFill>
                  <a:latin typeface="Times New Roman"/>
                </a:rPr>
                <a:t>よくある三つの質問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" name="nishiura_color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2141640" cy="234936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3657600" y="4419720"/>
            <a:ext cx="4724280" cy="1510920"/>
            <a:chOff x="3657600" y="4419720"/>
            <a:chExt cx="4724280" cy="1510920"/>
          </a:xfrm>
        </p:grpSpPr>
        <p:sp>
          <p:nvSpPr>
            <p:cNvPr id="47" name=""/>
            <p:cNvSpPr/>
            <p:nvPr/>
          </p:nvSpPr>
          <p:spPr>
            <a:xfrm>
              <a:off x="3657600" y="441972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9900"/>
                  </a:solidFill>
                  <a:latin typeface="Times New Roman"/>
                </a:rPr>
                <a:t>東京大学天文学教育研究センタ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62160" y="4876560"/>
              <a:ext cx="41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9900"/>
                  </a:solidFill>
                  <a:latin typeface="Times New Roman"/>
                </a:rPr>
                <a:t>木曽観測所研究機関研究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90960" y="5410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996633"/>
                  </a:solidFill>
                  <a:latin typeface="Times New Roman"/>
                </a:rPr>
                <a:t>西浦 慎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905120" y="28954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～そのうち二つの傾向と対策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0880" y="304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8000"/>
                </a:solidFill>
                <a:latin typeface="Times New Roman"/>
              </a:rPr>
              <a:t>最近の傾向（その１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hst" descr=""/>
          <p:cNvPicPr/>
          <p:nvPr/>
        </p:nvPicPr>
        <p:blipFill>
          <a:blip r:embed="rId1"/>
          <a:stretch/>
        </p:blipFill>
        <p:spPr>
          <a:xfrm>
            <a:off x="5638680" y="3581280"/>
            <a:ext cx="3219480" cy="2090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66680" y="9907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ハッブル宇宙望遠鏡による系外銀河内の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セファイド変光星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の観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38320" y="5791320"/>
            <a:ext cx="319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140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億年、 </a:t>
            </a:r>
            <a:r>
              <a:rPr b="1" i="1" lang="ja-JP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ja-JP" sz="2400" spc="-1" strike="noStrike" baseline="-25000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=71 km/s/M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m106bvr" descr=""/>
          <p:cNvPicPr/>
          <p:nvPr/>
        </p:nvPicPr>
        <p:blipFill>
          <a:blip r:embed="rId2"/>
          <a:srcRect l="19561" t="9096" r="25835" b="35807"/>
          <a:stretch/>
        </p:blipFill>
        <p:spPr>
          <a:xfrm>
            <a:off x="457200" y="2057400"/>
            <a:ext cx="2130480" cy="2746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flipH="1" flipV="1">
            <a:off x="1371240" y="3886200"/>
            <a:ext cx="4419720" cy="4572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22096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セファイド変光星：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 変光周期と光度に密接な関係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wmap_bg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6859440" cy="3430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0880" y="304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8000"/>
                </a:solidFill>
                <a:latin typeface="Times New Roman"/>
              </a:rPr>
              <a:t>最近の傾向（その２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wmap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3193920" cy="2084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343400" y="10666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ＷＭＡＰ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る遠方からの</a:t>
            </a:r>
            <a:r>
              <a:rPr b="0" lang="ja-JP" sz="2400" spc="-1" strike="noStrike">
                <a:solidFill>
                  <a:srgbClr val="ff00ff"/>
                </a:solidFill>
                <a:latin typeface="Times New Roman"/>
              </a:rPr>
              <a:t>マイクロ波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観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14840" y="2286000"/>
            <a:ext cx="319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137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億年、 </a:t>
            </a:r>
            <a:r>
              <a:rPr b="1" i="1" lang="ja-JP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ja-JP" sz="2400" spc="-1" strike="noStrike" baseline="-25000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=71 km/s/M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0880" y="304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8000"/>
                </a:solidFill>
                <a:latin typeface="Times New Roman"/>
              </a:rPr>
              <a:t>さらなる宇宙の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las_campanus" descr=""/>
          <p:cNvPicPr/>
          <p:nvPr/>
        </p:nvPicPr>
        <p:blipFill>
          <a:blip r:embed="rId1"/>
          <a:srcRect l="3565" t="0" r="13255" b="7949"/>
          <a:stretch/>
        </p:blipFill>
        <p:spPr>
          <a:xfrm>
            <a:off x="762120" y="914400"/>
            <a:ext cx="3768480" cy="5369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648320" y="26668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宇宙には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銀河が集まる所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と、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銀河がほとんど存在しない所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876920" y="4038480"/>
            <a:ext cx="3962160" cy="1602720"/>
            <a:chOff x="4876920" y="4038480"/>
            <a:chExt cx="3962160" cy="1602720"/>
          </a:xfrm>
        </p:grpSpPr>
        <p:sp>
          <p:nvSpPr>
            <p:cNvPr id="175" name=""/>
            <p:cNvSpPr/>
            <p:nvPr/>
          </p:nvSpPr>
          <p:spPr>
            <a:xfrm>
              <a:off x="6629040" y="40384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76920" y="518148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こんな宇宙になるためには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19320" y="4572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２） ブラックホールはあるのです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10666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00"/>
                </a:solidFill>
                <a:latin typeface="Times New Roman"/>
              </a:rPr>
              <a:t>いろいろなブラックホールが存在しま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stars_lifes" descr=""/>
          <p:cNvPicPr/>
          <p:nvPr/>
        </p:nvPicPr>
        <p:blipFill>
          <a:blip r:embed="rId1"/>
          <a:srcRect l="1734" t="1501" r="0" b="1090"/>
          <a:stretch/>
        </p:blipFill>
        <p:spPr>
          <a:xfrm>
            <a:off x="304920" y="1676520"/>
            <a:ext cx="4324320" cy="49528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00600" y="228600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ブラックホール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とは超高密度な</a:t>
            </a:r>
            <a:r>
              <a:rPr b="1" lang="ja-JP" sz="2800" spc="-1" strike="noStrike">
                <a:solidFill>
                  <a:srgbClr val="ff00ff"/>
                </a:solidFill>
                <a:latin typeface="Times New Roman"/>
              </a:rPr>
              <a:t>ただの星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で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6920" y="3352680"/>
            <a:ext cx="3809880" cy="1937880"/>
            <a:chOff x="4876920" y="3352680"/>
            <a:chExt cx="3809880" cy="1937880"/>
          </a:xfrm>
        </p:grpSpPr>
        <p:sp>
          <p:nvSpPr>
            <p:cNvPr id="182" name=""/>
            <p:cNvSpPr/>
            <p:nvPr/>
          </p:nvSpPr>
          <p:spPr>
            <a:xfrm>
              <a:off x="6553080" y="33526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76920" y="4343400"/>
              <a:ext cx="3809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ja-JP" sz="2800" spc="-1" strike="noStrike">
                  <a:solidFill>
                    <a:srgbClr val="000000"/>
                  </a:solidFill>
                  <a:latin typeface="Times New Roman"/>
                </a:rPr>
                <a:t>ブラックホール角砂糖１個分の質量が</a:t>
              </a:r>
              <a:r>
                <a:rPr b="1" lang="ja-JP" sz="2800" spc="-1" strike="noStrike">
                  <a:solidFill>
                    <a:srgbClr val="ff3300"/>
                  </a:solidFill>
                  <a:latin typeface="Times New Roman"/>
                </a:rPr>
                <a:t>富士山数１０個分</a:t>
              </a:r>
              <a:r>
                <a:rPr b="1" lang="ja-JP" sz="2800" spc="-1" strike="noStrike">
                  <a:solidFill>
                    <a:srgbClr val="000000"/>
                  </a:solidFill>
                  <a:latin typeface="Times New Roman"/>
                </a:rPr>
                <a:t>にもなります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1143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電波銀河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や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クエーサー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と呼ばれる活動銀河の中心部には、</a:t>
            </a:r>
            <a:r>
              <a:rPr b="1" lang="ja-JP" sz="2400" spc="-1" strike="noStrike">
                <a:solidFill>
                  <a:srgbClr val="ff00ff"/>
                </a:solidFill>
                <a:latin typeface="Times New Roman"/>
              </a:rPr>
              <a:t>太陽の数１０００万から１億倍の質量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を持つ、超巨大ブラックホールがあると考えられ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828800" y="2514600"/>
            <a:ext cx="5383080" cy="3812400"/>
            <a:chOff x="1828800" y="2514600"/>
            <a:chExt cx="5383080" cy="3812400"/>
          </a:xfrm>
        </p:grpSpPr>
        <p:pic>
          <p:nvPicPr>
            <p:cNvPr id="186" name="bh_cenA" descr=""/>
            <p:cNvPicPr/>
            <p:nvPr/>
          </p:nvPicPr>
          <p:blipFill>
            <a:blip r:embed="rId1"/>
            <a:stretch/>
          </p:blipFill>
          <p:spPr>
            <a:xfrm>
              <a:off x="1828800" y="2514600"/>
              <a:ext cx="5383080" cy="3348000"/>
            </a:xfrm>
            <a:prstGeom prst="rect">
              <a:avLst/>
            </a:prstGeom>
            <a:ln w="9360">
              <a:solidFill>
                <a:srgbClr val="ff6600"/>
              </a:solidFill>
              <a:miter/>
            </a:ln>
          </p:spPr>
        </p:pic>
        <p:sp>
          <p:nvSpPr>
            <p:cNvPr id="187" name=""/>
            <p:cNvSpPr/>
            <p:nvPr/>
          </p:nvSpPr>
          <p:spPr>
            <a:xfrm>
              <a:off x="2819520" y="58672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（電波銀河ケンタウルスＡ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57200" y="609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ところが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124080" y="3124080"/>
            <a:ext cx="2819520" cy="4572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600200" y="3200400"/>
            <a:ext cx="3124080" cy="1450440"/>
            <a:chOff x="1600200" y="3200400"/>
            <a:chExt cx="3124080" cy="1450440"/>
          </a:xfrm>
        </p:grpSpPr>
        <p:sp>
          <p:nvSpPr>
            <p:cNvPr id="191" name=""/>
            <p:cNvSpPr/>
            <p:nvPr/>
          </p:nvSpPr>
          <p:spPr>
            <a:xfrm>
              <a:off x="4419720" y="32004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895480" y="3352680"/>
              <a:ext cx="1676520" cy="9144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00200" y="41911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ブラックホー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333760" y="1905120"/>
            <a:ext cx="2438640" cy="1371600"/>
            <a:chOff x="5333760" y="1905120"/>
            <a:chExt cx="2438640" cy="1371600"/>
          </a:xfrm>
        </p:grpSpPr>
        <p:sp>
          <p:nvSpPr>
            <p:cNvPr id="195" name=""/>
            <p:cNvSpPr/>
            <p:nvPr/>
          </p:nvSpPr>
          <p:spPr>
            <a:xfrm flipH="1">
              <a:off x="5333760" y="2362320"/>
              <a:ext cx="99036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95880" y="19051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3300"/>
                  </a:solidFill>
                  <a:latin typeface="Times New Roman"/>
                </a:rPr>
                <a:t>降着円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114800" y="3352320"/>
            <a:ext cx="2361960" cy="917280"/>
            <a:chOff x="4114800" y="3352320"/>
            <a:chExt cx="2361960" cy="917280"/>
          </a:xfrm>
        </p:grpSpPr>
        <p:sp>
          <p:nvSpPr>
            <p:cNvPr id="198" name=""/>
            <p:cNvSpPr/>
            <p:nvPr/>
          </p:nvSpPr>
          <p:spPr>
            <a:xfrm flipV="1">
              <a:off x="5257800" y="3352320"/>
              <a:ext cx="457200" cy="53316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14800" y="38098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6600"/>
                  </a:solidFill>
                  <a:latin typeface="Times New Roman"/>
                </a:rPr>
                <a:t>物質の流れ込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124080" y="2438280"/>
            <a:ext cx="2590920" cy="914400"/>
            <a:chOff x="3124080" y="2438280"/>
            <a:chExt cx="2590920" cy="914400"/>
          </a:xfrm>
        </p:grpSpPr>
        <p:sp>
          <p:nvSpPr>
            <p:cNvPr id="201" name=""/>
            <p:cNvSpPr/>
            <p:nvPr/>
          </p:nvSpPr>
          <p:spPr>
            <a:xfrm flipH="1">
              <a:off x="3352320" y="2819160"/>
              <a:ext cx="609480" cy="53352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24080" y="24382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6600"/>
                  </a:solidFill>
                  <a:latin typeface="Times New Roman"/>
                </a:rPr>
                <a:t>物質の流れ込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343400" y="457200"/>
            <a:ext cx="2286000" cy="5791320"/>
            <a:chOff x="4343400" y="457200"/>
            <a:chExt cx="2286000" cy="5791320"/>
          </a:xfrm>
        </p:grpSpPr>
        <p:grpSp>
          <p:nvGrpSpPr>
            <p:cNvPr id="204" name=""/>
            <p:cNvGrpSpPr/>
            <p:nvPr/>
          </p:nvGrpSpPr>
          <p:grpSpPr>
            <a:xfrm>
              <a:off x="4343400" y="457200"/>
              <a:ext cx="457200" cy="5791320"/>
              <a:chOff x="4343400" y="457200"/>
              <a:chExt cx="457200" cy="5791320"/>
            </a:xfrm>
          </p:grpSpPr>
          <p:sp>
            <p:nvSpPr>
              <p:cNvPr id="205" name=""/>
              <p:cNvSpPr/>
              <p:nvPr/>
            </p:nvSpPr>
            <p:spPr>
              <a:xfrm>
                <a:off x="4343400" y="3429000"/>
                <a:ext cx="457200" cy="2133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0800000">
                <a:off x="4343400" y="1066320"/>
                <a:ext cx="457200" cy="2133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572000" y="5715000"/>
                <a:ext cx="0" cy="533520"/>
              </a:xfrm>
              <a:prstGeom prst="line">
                <a:avLst/>
              </a:prstGeom>
              <a:ln w="63360">
                <a:solidFill>
                  <a:srgbClr val="00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4572000" y="457200"/>
                <a:ext cx="0" cy="533520"/>
              </a:xfrm>
              <a:prstGeom prst="line">
                <a:avLst/>
              </a:prstGeom>
              <a:ln w="63360">
                <a:solidFill>
                  <a:srgbClr val="00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800600" y="57150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8000"/>
                  </a:solidFill>
                  <a:latin typeface="Times New Roman"/>
                </a:rPr>
                <a:t>電波ジェッ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24280" y="533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8000"/>
                  </a:solidFill>
                  <a:latin typeface="Times New Roman"/>
                </a:rPr>
                <a:t>電波ジェッ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715000" y="3352680"/>
            <a:ext cx="1676520" cy="1907280"/>
            <a:chOff x="5715000" y="3352680"/>
            <a:chExt cx="1676520" cy="1907280"/>
          </a:xfrm>
        </p:grpSpPr>
        <p:sp>
          <p:nvSpPr>
            <p:cNvPr id="212" name=""/>
            <p:cNvSpPr/>
            <p:nvPr/>
          </p:nvSpPr>
          <p:spPr>
            <a:xfrm>
              <a:off x="5715000" y="3352680"/>
              <a:ext cx="1676520" cy="1778040"/>
            </a:xfrm>
            <a:custGeom>
              <a:avLst/>
              <a:gdLst/>
              <a:ahLst/>
              <a:rect l="l" t="t" r="r" b="b"/>
              <a:pathLst>
                <a:path w="1056" h="1120">
                  <a:moveTo>
                    <a:pt x="144" y="0"/>
                  </a:moveTo>
                  <a:cubicBezTo>
                    <a:pt x="72" y="92"/>
                    <a:pt x="0" y="184"/>
                    <a:pt x="48" y="192"/>
                  </a:cubicBezTo>
                  <a:cubicBezTo>
                    <a:pt x="96" y="200"/>
                    <a:pt x="392" y="8"/>
                    <a:pt x="432" y="48"/>
                  </a:cubicBezTo>
                  <a:cubicBezTo>
                    <a:pt x="472" y="88"/>
                    <a:pt x="256" y="400"/>
                    <a:pt x="288" y="432"/>
                  </a:cubicBezTo>
                  <a:cubicBezTo>
                    <a:pt x="320" y="464"/>
                    <a:pt x="600" y="200"/>
                    <a:pt x="624" y="240"/>
                  </a:cubicBezTo>
                  <a:cubicBezTo>
                    <a:pt x="648" y="280"/>
                    <a:pt x="408" y="640"/>
                    <a:pt x="432" y="672"/>
                  </a:cubicBezTo>
                  <a:cubicBezTo>
                    <a:pt x="456" y="704"/>
                    <a:pt x="736" y="400"/>
                    <a:pt x="768" y="432"/>
                  </a:cubicBezTo>
                  <a:cubicBezTo>
                    <a:pt x="800" y="464"/>
                    <a:pt x="584" y="832"/>
                    <a:pt x="624" y="864"/>
                  </a:cubicBezTo>
                  <a:cubicBezTo>
                    <a:pt x="664" y="896"/>
                    <a:pt x="968" y="592"/>
                    <a:pt x="1008" y="624"/>
                  </a:cubicBezTo>
                  <a:cubicBezTo>
                    <a:pt x="1048" y="656"/>
                    <a:pt x="856" y="992"/>
                    <a:pt x="864" y="1056"/>
                  </a:cubicBezTo>
                  <a:cubicBezTo>
                    <a:pt x="872" y="1120"/>
                    <a:pt x="964" y="1064"/>
                    <a:pt x="1056" y="1008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72200" y="48002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752480" y="1295280"/>
            <a:ext cx="1676160" cy="2006280"/>
            <a:chOff x="1752480" y="1295280"/>
            <a:chExt cx="1676160" cy="2006280"/>
          </a:xfrm>
        </p:grpSpPr>
        <p:sp>
          <p:nvSpPr>
            <p:cNvPr id="215" name=""/>
            <p:cNvSpPr/>
            <p:nvPr/>
          </p:nvSpPr>
          <p:spPr>
            <a:xfrm rot="10800000">
              <a:off x="1752480" y="1523520"/>
              <a:ext cx="1676160" cy="1778040"/>
            </a:xfrm>
            <a:custGeom>
              <a:avLst/>
              <a:gdLst/>
              <a:ahLst/>
              <a:rect l="l" t="t" r="r" b="b"/>
              <a:pathLst>
                <a:path w="1056" h="1120">
                  <a:moveTo>
                    <a:pt x="144" y="0"/>
                  </a:moveTo>
                  <a:cubicBezTo>
                    <a:pt x="72" y="92"/>
                    <a:pt x="0" y="184"/>
                    <a:pt x="48" y="192"/>
                  </a:cubicBezTo>
                  <a:cubicBezTo>
                    <a:pt x="96" y="200"/>
                    <a:pt x="392" y="8"/>
                    <a:pt x="432" y="48"/>
                  </a:cubicBezTo>
                  <a:cubicBezTo>
                    <a:pt x="472" y="88"/>
                    <a:pt x="256" y="400"/>
                    <a:pt x="288" y="432"/>
                  </a:cubicBezTo>
                  <a:cubicBezTo>
                    <a:pt x="320" y="464"/>
                    <a:pt x="600" y="200"/>
                    <a:pt x="624" y="240"/>
                  </a:cubicBezTo>
                  <a:cubicBezTo>
                    <a:pt x="648" y="280"/>
                    <a:pt x="408" y="640"/>
                    <a:pt x="432" y="672"/>
                  </a:cubicBezTo>
                  <a:cubicBezTo>
                    <a:pt x="456" y="704"/>
                    <a:pt x="736" y="400"/>
                    <a:pt x="768" y="432"/>
                  </a:cubicBezTo>
                  <a:cubicBezTo>
                    <a:pt x="800" y="464"/>
                    <a:pt x="584" y="832"/>
                    <a:pt x="624" y="864"/>
                  </a:cubicBezTo>
                  <a:cubicBezTo>
                    <a:pt x="664" y="896"/>
                    <a:pt x="968" y="592"/>
                    <a:pt x="1008" y="624"/>
                  </a:cubicBezTo>
                  <a:cubicBezTo>
                    <a:pt x="1048" y="656"/>
                    <a:pt x="856" y="992"/>
                    <a:pt x="864" y="1056"/>
                  </a:cubicBezTo>
                  <a:cubicBezTo>
                    <a:pt x="872" y="1120"/>
                    <a:pt x="964" y="1064"/>
                    <a:pt x="1056" y="1008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33360" y="1295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-1143000" y="1752480"/>
            <a:ext cx="3809880" cy="3048120"/>
            <a:chOff x="-1143000" y="1752480"/>
            <a:chExt cx="3809880" cy="3048120"/>
          </a:xfrm>
        </p:grpSpPr>
        <p:sp>
          <p:nvSpPr>
            <p:cNvPr id="218" name=""/>
            <p:cNvSpPr/>
            <p:nvPr/>
          </p:nvSpPr>
          <p:spPr>
            <a:xfrm>
              <a:off x="-1143000" y="1752480"/>
              <a:ext cx="3048120" cy="30481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0880" y="3048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チリのドーナ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553080" y="1828800"/>
            <a:ext cx="3886200" cy="3048120"/>
            <a:chOff x="6553080" y="1828800"/>
            <a:chExt cx="3886200" cy="3048120"/>
          </a:xfrm>
        </p:grpSpPr>
        <p:sp>
          <p:nvSpPr>
            <p:cNvPr id="221" name=""/>
            <p:cNvSpPr/>
            <p:nvPr/>
          </p:nvSpPr>
          <p:spPr>
            <a:xfrm>
              <a:off x="7391520" y="1828800"/>
              <a:ext cx="3047760" cy="30481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53080" y="3048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チリのドーナ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ad_radio" descr=""/>
          <p:cNvPicPr/>
          <p:nvPr/>
        </p:nvPicPr>
        <p:blipFill>
          <a:blip r:embed="rId1"/>
          <a:srcRect l="2297" t="4052" r="3937" b="32613"/>
          <a:stretch/>
        </p:blipFill>
        <p:spPr>
          <a:xfrm>
            <a:off x="762120" y="1905120"/>
            <a:ext cx="7715160" cy="2952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80880" y="3808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超巨大ブラックホールの発見（その１：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1995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11430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電波干渉計による活動銀河中心のメーザー観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62120" y="2361960"/>
            <a:ext cx="8076960" cy="1524240"/>
            <a:chOff x="762120" y="2361960"/>
            <a:chExt cx="8076960" cy="1524240"/>
          </a:xfrm>
        </p:grpSpPr>
        <p:sp>
          <p:nvSpPr>
            <p:cNvPr id="227" name=""/>
            <p:cNvSpPr/>
            <p:nvPr/>
          </p:nvSpPr>
          <p:spPr>
            <a:xfrm>
              <a:off x="762120" y="2514600"/>
              <a:ext cx="8076960" cy="121932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09880" y="2895480"/>
              <a:ext cx="2133720" cy="45720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295280" y="2361960"/>
              <a:ext cx="114300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7314840" y="3581280"/>
              <a:ext cx="121932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828800" y="5029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ff"/>
                </a:solidFill>
                <a:latin typeface="Times New Roman"/>
              </a:rPr>
              <a:t>回転する円盤またはドーナツ状構造を発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54864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実はチリのドーナツだっ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5943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さらに中心部には超高密度天体が存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0880" y="380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超巨大ブラックホールの発見（その２：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1995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ad_x" descr=""/>
          <p:cNvPicPr/>
          <p:nvPr/>
        </p:nvPicPr>
        <p:blipFill>
          <a:blip r:embed="rId1"/>
          <a:srcRect l="10608" t="2929" r="10608" b="20155"/>
          <a:stretch/>
        </p:blipFill>
        <p:spPr>
          <a:xfrm>
            <a:off x="2057400" y="1676520"/>
            <a:ext cx="4664160" cy="3408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914400" y="10666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線観測衛星による活動銀河中心のスペクトル観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5105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スペクトルデータ（＋）とブラックホールの理論計算（実線）が一致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5867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強力な重力によるスペクトルの歪み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が証明され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0880" y="3808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超巨大ブラックホールの合体（その１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:2002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n6240_dss" descr=""/>
          <p:cNvPicPr/>
          <p:nvPr/>
        </p:nvPicPr>
        <p:blipFill>
          <a:blip r:embed="rId1"/>
          <a:srcRect l="33660" t="34077" r="36040" b="36893"/>
          <a:stretch/>
        </p:blipFill>
        <p:spPr>
          <a:xfrm>
            <a:off x="533520" y="1676520"/>
            <a:ext cx="4114800" cy="39621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533520" y="10666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線観測衛星チャンドラによる合体銀河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GC624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線観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828800" y="1676520"/>
            <a:ext cx="6603840" cy="3200040"/>
            <a:chOff x="1828800" y="1676520"/>
            <a:chExt cx="6603840" cy="3200040"/>
          </a:xfrm>
        </p:grpSpPr>
        <p:pic>
          <p:nvPicPr>
            <p:cNvPr id="243" name="ngc6240_bh" descr=""/>
            <p:cNvPicPr/>
            <p:nvPr/>
          </p:nvPicPr>
          <p:blipFill>
            <a:blip r:embed="rId2"/>
            <a:stretch/>
          </p:blipFill>
          <p:spPr>
            <a:xfrm>
              <a:off x="5257800" y="1676520"/>
              <a:ext cx="3174840" cy="3174840"/>
            </a:xfrm>
            <a:prstGeom prst="rect">
              <a:avLst/>
            </a:prstGeom>
            <a:ln w="9360">
              <a:solidFill>
                <a:srgbClr val="66ff33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1828800" y="3124080"/>
              <a:ext cx="1447920" cy="144792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209320" y="1676520"/>
              <a:ext cx="3048120" cy="15238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2590920" y="4571640"/>
              <a:ext cx="2666880" cy="304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295280" y="5867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ブラックホールと思われる</a:t>
            </a:r>
            <a:r>
              <a:rPr b="1" lang="ja-JP" sz="2400" spc="-1" strike="noStrike">
                <a:solidFill>
                  <a:srgbClr val="ff00ff"/>
                </a:solidFill>
                <a:latin typeface="Times New Roman"/>
              </a:rPr>
              <a:t>２つの</a:t>
            </a:r>
            <a:r>
              <a:rPr b="1" lang="ja-JP" sz="24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1" lang="ja-JP" sz="2400" spc="-1" strike="noStrike">
                <a:solidFill>
                  <a:srgbClr val="ff00ff"/>
                </a:solidFill>
                <a:latin typeface="Times New Roman"/>
              </a:rPr>
              <a:t>線天体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を発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80880" y="380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超巨大ブラックホールの合体（その２：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2003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Opt+RadioImage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48504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52480" y="38088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ff"/>
                </a:solidFill>
                <a:latin typeface="Times New Roman"/>
              </a:rPr>
              <a:t>よくある三つの質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447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１） 宇宙の果てはどうなっているのです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259092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２） ブラックホールはあるのです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36576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３） 宇宙人はいるのです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海部宣男（現・国立天文台台長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0574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00"/>
                </a:solidFill>
                <a:latin typeface="Times New Roman"/>
              </a:rPr>
              <a:t>宇宙に「果て」はありませ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31240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00"/>
                </a:solidFill>
                <a:latin typeface="Times New Roman"/>
              </a:rPr>
              <a:t>いろいろなブラックホールが存在しま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42670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ja-JP" sz="2800" spc="-1" strike="noStrike">
                <a:solidFill>
                  <a:srgbClr val="ff3300"/>
                </a:solidFill>
                <a:latin typeface="Times New Roman"/>
              </a:rPr>
              <a:t>「宇宙人がいない」と思っている天文学者はほんの少数でしょ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5715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西浦慎悟（東大理木曽観測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3657600"/>
            <a:ext cx="7620120" cy="1600200"/>
            <a:chOff x="609480" y="3657600"/>
            <a:chExt cx="7620120" cy="1600200"/>
          </a:xfrm>
        </p:grpSpPr>
        <p:sp>
          <p:nvSpPr>
            <p:cNvPr id="61" name=""/>
            <p:cNvSpPr/>
            <p:nvPr/>
          </p:nvSpPr>
          <p:spPr>
            <a:xfrm>
              <a:off x="609480" y="3657600"/>
              <a:ext cx="7620120" cy="1600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09480" y="3733560"/>
              <a:ext cx="7543800" cy="1523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BinaryBlackHole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629400" cy="55911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76212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超巨大ブラックホールは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銀河合体によって成長する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の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219320" y="16765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・ 望遠鏡の大型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438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・ 様々な波長帯での検出器の高性能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3124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・　コンピューターの高速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ここ２、３年の間で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3733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が大きく進み、</a:t>
            </a:r>
            <a:r>
              <a:rPr b="1" lang="ja-JP" sz="2400" spc="-1" strike="noStrike">
                <a:solidFill>
                  <a:srgbClr val="ff00ff"/>
                </a:solidFill>
                <a:latin typeface="Times New Roman"/>
              </a:rPr>
              <a:t>今まで見えなかった宇宙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が見えるようになって来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46483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今後これらを使って、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より詳しい宇宙の姿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を明らかにすることが求められてい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１） 宇宙の果てはどうなっているのです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11430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00"/>
                </a:solidFill>
                <a:latin typeface="Times New Roman"/>
              </a:rPr>
              <a:t>宇宙に「果て」はありませ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85800" y="3048120"/>
            <a:ext cx="990720" cy="1434960"/>
            <a:chOff x="685800" y="3048120"/>
            <a:chExt cx="990720" cy="1434960"/>
          </a:xfrm>
        </p:grpSpPr>
        <p:sp>
          <p:nvSpPr>
            <p:cNvPr id="66" name=""/>
            <p:cNvSpPr/>
            <p:nvPr/>
          </p:nvSpPr>
          <p:spPr>
            <a:xfrm>
              <a:off x="762120" y="3048120"/>
              <a:ext cx="838080" cy="91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96252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Times New Roman"/>
                </a:rPr>
                <a:t>地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752480" y="3505320"/>
            <a:ext cx="40388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876920" y="2286000"/>
            <a:ext cx="3504600" cy="2425680"/>
            <a:chOff x="4876920" y="2286000"/>
            <a:chExt cx="3504600" cy="2425680"/>
          </a:xfrm>
        </p:grpSpPr>
        <p:sp>
          <p:nvSpPr>
            <p:cNvPr id="70" name=""/>
            <p:cNvSpPr/>
            <p:nvPr/>
          </p:nvSpPr>
          <p:spPr>
            <a:xfrm>
              <a:off x="5943600" y="2286000"/>
              <a:ext cx="0" cy="2362320"/>
            </a:xfrm>
            <a:prstGeom prst="line">
              <a:avLst/>
            </a:prstGeom>
            <a:ln w="1015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41911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ff"/>
                  </a:solidFill>
                  <a:latin typeface="Times New Roman"/>
                </a:rPr>
                <a:t>宇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19560" y="419112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ff"/>
                  </a:solidFill>
                  <a:latin typeface="Times New Roman"/>
                </a:rPr>
                <a:t>宇宙じゃな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143000" y="49528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00"/>
                </a:solidFill>
                <a:latin typeface="Times New Roman"/>
              </a:rPr>
              <a:t>壁のようなものがある訳ではありませ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56386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ff"/>
                </a:solidFill>
                <a:latin typeface="Times New Roman"/>
              </a:rPr>
              <a:t>「果てがない」＝「無限大」とは限りませ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95280" y="457200"/>
            <a:ext cx="6324840" cy="520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ff"/>
                </a:solidFill>
                <a:latin typeface="Times New Roman"/>
              </a:rPr>
              <a:t>「果てがない」＝「無限大」とは限らな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1676520"/>
            <a:ext cx="3581640" cy="3504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例） 地球の表面（球面）を歩き回ることを考え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5410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地球表面には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</a:rPr>
              <a:t>「果て」はありません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、しかし地球表面は</a:t>
            </a:r>
            <a:r>
              <a:rPr b="1" lang="ja-JP" sz="2800" spc="-1" strike="noStrike">
                <a:solidFill>
                  <a:srgbClr val="ff3300"/>
                </a:solidFill>
                <a:latin typeface="Times New Roman"/>
              </a:rPr>
              <a:t>「無限大」ではありません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universe_life" descr=""/>
          <p:cNvPicPr/>
          <p:nvPr/>
        </p:nvPicPr>
        <p:blipFill>
          <a:blip r:embed="rId1"/>
          <a:srcRect l="3583" t="2433" r="4448" b="2097"/>
          <a:stretch/>
        </p:blipFill>
        <p:spPr>
          <a:xfrm>
            <a:off x="228600" y="304920"/>
            <a:ext cx="4019400" cy="6140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48320" y="533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では宇宙の年齢は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029200" y="1066680"/>
            <a:ext cx="2666880" cy="1036800"/>
            <a:chOff x="5029200" y="1066680"/>
            <a:chExt cx="2666880" cy="1036800"/>
          </a:xfrm>
        </p:grpSpPr>
        <p:sp>
          <p:nvSpPr>
            <p:cNvPr id="82" name=""/>
            <p:cNvSpPr/>
            <p:nvPr/>
          </p:nvSpPr>
          <p:spPr>
            <a:xfrm>
              <a:off x="5333760" y="1523880"/>
              <a:ext cx="1980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00ff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 ×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  <a:ea typeface="ＭＳ ゴシック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9200" y="10666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3300"/>
                  </a:solidFill>
                  <a:latin typeface="Times New Roman"/>
                </a:rPr>
                <a:t>ハッブルの法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029200" y="2057400"/>
            <a:ext cx="3657600" cy="1755000"/>
            <a:chOff x="5029200" y="2057400"/>
            <a:chExt cx="3657600" cy="1755000"/>
          </a:xfrm>
        </p:grpSpPr>
        <p:sp>
          <p:nvSpPr>
            <p:cNvPr id="85" name=""/>
            <p:cNvSpPr/>
            <p:nvPr/>
          </p:nvSpPr>
          <p:spPr>
            <a:xfrm>
              <a:off x="5029200" y="205740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銀河までの距離（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Mpc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29200" y="251424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銀河の後退速度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(km/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29200" y="29714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400" spc="-1" strike="noStrike">
                  <a:solidFill>
                    <a:srgbClr val="ff00ff"/>
                  </a:solidFill>
                  <a:latin typeface="Times New Roman"/>
                </a:rPr>
                <a:t>H</a:t>
              </a:r>
              <a:r>
                <a:rPr b="1" lang="ja-JP" sz="2400" spc="-1" strike="noStrike" baseline="-25000">
                  <a:solidFill>
                    <a:srgbClr val="ff00ff"/>
                  </a:solidFill>
                  <a:latin typeface="Times New Roman"/>
                </a:rPr>
                <a:t>0</a:t>
              </a:r>
              <a:r>
                <a:rPr b="1" lang="ja-JP" sz="2400" spc="-1" strike="noStrike">
                  <a:solidFill>
                    <a:srgbClr val="ff00ff"/>
                  </a:solidFill>
                  <a:latin typeface="Times New Roman"/>
                </a:rPr>
                <a:t>: </a:t>
              </a:r>
              <a:r>
                <a:rPr b="1" lang="ja-JP" sz="2400" spc="-1" strike="noStrike">
                  <a:solidFill>
                    <a:srgbClr val="ff00ff"/>
                  </a:solidFill>
                  <a:latin typeface="Times New Roman"/>
                </a:rPr>
                <a:t>ハッブル定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62720" y="33526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00ff"/>
                  </a:solidFill>
                  <a:latin typeface="Times New Roman"/>
                </a:rPr>
                <a:t>50-100 (km/s/Mp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648320" y="3886200"/>
            <a:ext cx="3962160" cy="916560"/>
            <a:chOff x="4648320" y="3886200"/>
            <a:chExt cx="3962160" cy="916560"/>
          </a:xfrm>
        </p:grpSpPr>
        <p:sp>
          <p:nvSpPr>
            <p:cNvPr id="90" name=""/>
            <p:cNvSpPr/>
            <p:nvPr/>
          </p:nvSpPr>
          <p:spPr>
            <a:xfrm>
              <a:off x="6477120" y="388620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48320" y="434304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ハッブル定数の逆数が</a:t>
              </a:r>
              <a:r>
                <a:rPr b="1" lang="ja-JP" sz="2400" spc="-1" strike="noStrike">
                  <a:solidFill>
                    <a:srgbClr val="ff3300"/>
                  </a:solidFill>
                  <a:latin typeface="Times New Roman"/>
                </a:rPr>
                <a:t>宇宙年齢</a:t>
              </a: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を示す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191120" y="57913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精密に</a:t>
            </a:r>
            <a:r>
              <a:rPr b="1" i="1" lang="ja-JP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を求めるのが最大の問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380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精密に</a:t>
            </a:r>
            <a:r>
              <a:rPr b="1" i="1" lang="ja-JP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を求めるのが最大の問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55627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天体の</a:t>
            </a:r>
            <a:r>
              <a:rPr b="1" lang="ja-JP" sz="2400" spc="-1" strike="noStrike">
                <a:solidFill>
                  <a:srgbClr val="ff00ff"/>
                </a:solidFill>
                <a:latin typeface="Times New Roman"/>
              </a:rPr>
              <a:t>本当の明るさ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と、</a:t>
            </a:r>
            <a:r>
              <a:rPr b="1" lang="ja-JP" sz="2400" spc="-1" strike="noStrike">
                <a:solidFill>
                  <a:srgbClr val="ff9900"/>
                </a:solidFill>
                <a:latin typeface="Times New Roman"/>
              </a:rPr>
              <a:t>見かけの明るさ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違いから、その天体までの距離が計算できる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0666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「天体の明るさは距離の２乗に反比例する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34693" t="20081" r="30264" b="39046"/>
          <a:stretch/>
        </p:blipFill>
        <p:spPr>
          <a:xfrm>
            <a:off x="609480" y="2971800"/>
            <a:ext cx="954360" cy="159372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066680" y="1676520"/>
            <a:ext cx="3810240" cy="459720"/>
            <a:chOff x="1066680" y="1676520"/>
            <a:chExt cx="3810240" cy="459720"/>
          </a:xfrm>
        </p:grpSpPr>
        <p:sp>
          <p:nvSpPr>
            <p:cNvPr id="98" name=""/>
            <p:cNvSpPr/>
            <p:nvPr/>
          </p:nvSpPr>
          <p:spPr>
            <a:xfrm>
              <a:off x="1066680" y="2057400"/>
              <a:ext cx="38102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00400" y="1676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8000"/>
                  </a:solidFill>
                  <a:latin typeface="Times New Roman"/>
                </a:rPr>
                <a:t>距離</a:t>
              </a:r>
              <a:r>
                <a:rPr b="1" i="1" lang="ja-JP" sz="2400" spc="-1" strike="noStrike">
                  <a:solidFill>
                    <a:srgbClr val="008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66680" y="2057400"/>
            <a:ext cx="6934320" cy="459720"/>
            <a:chOff x="1066680" y="2057400"/>
            <a:chExt cx="6934320" cy="459720"/>
          </a:xfrm>
        </p:grpSpPr>
        <p:sp>
          <p:nvSpPr>
            <p:cNvPr id="101" name=""/>
            <p:cNvSpPr/>
            <p:nvPr/>
          </p:nvSpPr>
          <p:spPr>
            <a:xfrm>
              <a:off x="1066680" y="2438280"/>
              <a:ext cx="693432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19920" y="20574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8000"/>
                  </a:solidFill>
                  <a:latin typeface="Times New Roman"/>
                </a:rPr>
                <a:t>距離</a:t>
              </a:r>
              <a:r>
                <a:rPr b="1" lang="ja-JP" sz="2400" spc="-1" strike="noStrike">
                  <a:solidFill>
                    <a:srgbClr val="008000"/>
                  </a:solidFill>
                  <a:latin typeface="Times New Roman"/>
                </a:rPr>
                <a:t>2</a:t>
              </a:r>
              <a:r>
                <a:rPr b="1" i="1" lang="ja-JP" sz="2400" spc="-1" strike="noStrike">
                  <a:solidFill>
                    <a:srgbClr val="008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16200000">
            <a:off x="3504960" y="304200"/>
            <a:ext cx="2210040" cy="6934320"/>
          </a:xfrm>
          <a:prstGeom prst="triangle">
            <a:avLst>
              <a:gd name="adj" fmla="val 50273"/>
            </a:avLst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108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477120" y="2666880"/>
            <a:ext cx="1981080" cy="2209680"/>
            <a:chOff x="6477120" y="2666880"/>
            <a:chExt cx="1981080" cy="2209680"/>
          </a:xfrm>
        </p:grpSpPr>
        <p:sp>
          <p:nvSpPr>
            <p:cNvPr id="105" name=""/>
            <p:cNvSpPr/>
            <p:nvPr/>
          </p:nvSpPr>
          <p:spPr>
            <a:xfrm>
              <a:off x="7543800" y="2666880"/>
              <a:ext cx="914400" cy="220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77120" y="304776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3300"/>
                  </a:solidFill>
                  <a:latin typeface="Times New Roman"/>
                </a:rPr>
                <a:t>エネルギー</a:t>
              </a:r>
              <a:r>
                <a:rPr b="1" i="1" lang="ja-JP" sz="24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7120" y="34286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面積</a:t>
              </a: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r>
                <a:rPr b="1" i="1" lang="ja-JP" sz="2400" spc="-1" strike="noStrike">
                  <a:solidFill>
                    <a:srgbClr val="0000ff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962520" y="3124080"/>
            <a:ext cx="1981080" cy="1219320"/>
            <a:chOff x="3962520" y="3124080"/>
            <a:chExt cx="1981080" cy="1219320"/>
          </a:xfrm>
        </p:grpSpPr>
        <p:sp>
          <p:nvSpPr>
            <p:cNvPr id="109" name=""/>
            <p:cNvSpPr/>
            <p:nvPr/>
          </p:nvSpPr>
          <p:spPr>
            <a:xfrm>
              <a:off x="4648320" y="3124080"/>
              <a:ext cx="533520" cy="1219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62520" y="32767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3300"/>
                  </a:solidFill>
                  <a:latin typeface="Times New Roman"/>
                </a:rPr>
                <a:t>エネルギー</a:t>
              </a:r>
              <a:r>
                <a:rPr b="1" i="1" lang="ja-JP" sz="24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62520" y="3657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面積</a:t>
              </a:r>
              <a:r>
                <a:rPr b="1" i="1" lang="ja-JP" sz="2400" spc="-1" strike="noStrike">
                  <a:solidFill>
                    <a:srgbClr val="0000ff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57200" y="48769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ff"/>
                </a:solidFill>
                <a:latin typeface="Times New Roman"/>
              </a:rPr>
              <a:t>明るさの比                                      １　         　　：　             </a:t>
            </a:r>
            <a:r>
              <a:rPr b="1" lang="ja-JP" sz="2400" spc="-1" strike="noStrike">
                <a:solidFill>
                  <a:srgbClr val="ff00ff"/>
                </a:solidFill>
                <a:latin typeface="Times New Roman"/>
              </a:rPr>
              <a:t>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5335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実例 </a:t>
            </a: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1) </a:t>
            </a: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木曽観測所研究チーム（</a:t>
            </a: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1990</a:t>
            </a: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年代初期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143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岡村定矩氏（現・東京大学天文学教室）達を中心とした研究チームで、</a:t>
            </a:r>
            <a:r>
              <a:rPr b="0" lang="ja-JP" sz="2400" spc="-1" strike="noStrike">
                <a:solidFill>
                  <a:srgbClr val="ff00ff"/>
                </a:solidFill>
                <a:latin typeface="Times New Roman"/>
              </a:rPr>
              <a:t>当時最新の</a:t>
            </a:r>
            <a:r>
              <a:rPr b="0" lang="ja-JP" sz="2400" spc="-1" strike="noStrike">
                <a:solidFill>
                  <a:srgbClr val="ff00ff"/>
                </a:solidFill>
                <a:latin typeface="Times New Roman"/>
              </a:rPr>
              <a:t>CCD</a:t>
            </a:r>
            <a:r>
              <a:rPr b="0" lang="ja-JP" sz="2400" spc="-1" strike="noStrike">
                <a:solidFill>
                  <a:srgbClr val="ff00ff"/>
                </a:solidFill>
                <a:latin typeface="Times New Roman"/>
              </a:rPr>
              <a:t>カメラ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用いて、より精密に銀河の明るさを測定する観測的研究を行っ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971800"/>
            <a:ext cx="45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１０９億年、 </a:t>
            </a:r>
            <a:r>
              <a:rPr b="1" i="1" lang="ja-JP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ja-JP" sz="2400" spc="-1" strike="noStrike" baseline="-25000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=92+-16 km/s/M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8098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実例 ２</a:t>
            </a: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) MAGNUM</a:t>
            </a:r>
            <a:r>
              <a:rPr b="1" lang="ja-JP" sz="2400" spc="-1" strike="noStrike">
                <a:solidFill>
                  <a:srgbClr val="3333cc"/>
                </a:solidFill>
                <a:latin typeface="Times New Roman"/>
              </a:rPr>
              <a:t>チーム（現在進行中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42670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吉井譲氏（現・東京大学天文学教育研究センター）達を中心とした研究チームで、</a:t>
            </a:r>
            <a:r>
              <a:rPr b="0" lang="ja-JP" sz="2400" spc="-1" strike="noStrike">
                <a:solidFill>
                  <a:srgbClr val="ff00ff"/>
                </a:solidFill>
                <a:latin typeface="Times New Roman"/>
              </a:rPr>
              <a:t>専用望遠鏡をマウイ島</a:t>
            </a:r>
            <a:r>
              <a:rPr b="0" lang="ja-JP" sz="2400" spc="-1" strike="noStrike">
                <a:solidFill>
                  <a:srgbClr val="ff00ff"/>
                </a:solidFill>
                <a:latin typeface="Times New Roman"/>
              </a:rPr>
              <a:t>(</a:t>
            </a:r>
            <a:r>
              <a:rPr b="0" lang="ja-JP" sz="2400" spc="-1" strike="noStrike">
                <a:solidFill>
                  <a:srgbClr val="ff00ff"/>
                </a:solidFill>
                <a:latin typeface="Times New Roman"/>
              </a:rPr>
              <a:t>ハワイ州</a:t>
            </a:r>
            <a:r>
              <a:rPr b="0" lang="ja-JP" sz="2400" spc="-1" strike="noStrike">
                <a:solidFill>
                  <a:srgbClr val="ff00ff"/>
                </a:solidFill>
                <a:latin typeface="Times New Roman"/>
              </a:rPr>
              <a:t>)</a:t>
            </a:r>
            <a:r>
              <a:rPr b="0" lang="ja-JP" sz="2400" spc="-1" strike="noStrike">
                <a:solidFill>
                  <a:srgbClr val="ff00ff"/>
                </a:solidFill>
                <a:latin typeface="Times New Roman"/>
              </a:rPr>
              <a:t>ハレアカラ山頂に置き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、活動銀河の可視・近赤外線変光観測を行う。この変光のズレから銀河までの距離を求める </a:t>
            </a:r>
            <a:r>
              <a:rPr b="1" lang="ja-JP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 今までに無い決定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685800" y="3200400"/>
            <a:ext cx="990720" cy="1434960"/>
            <a:chOff x="685800" y="3200400"/>
            <a:chExt cx="990720" cy="1434960"/>
          </a:xfrm>
        </p:grpSpPr>
        <p:sp>
          <p:nvSpPr>
            <p:cNvPr id="119" name=""/>
            <p:cNvSpPr/>
            <p:nvPr/>
          </p:nvSpPr>
          <p:spPr>
            <a:xfrm>
              <a:off x="762120" y="3200400"/>
              <a:ext cx="838080" cy="91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5800" y="41148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Times New Roman"/>
                </a:rPr>
                <a:t>地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752480" y="2819520"/>
            <a:ext cx="5181840" cy="533160"/>
            <a:chOff x="1752480" y="2819520"/>
            <a:chExt cx="5181840" cy="533160"/>
          </a:xfrm>
        </p:grpSpPr>
        <p:sp>
          <p:nvSpPr>
            <p:cNvPr id="122" name=""/>
            <p:cNvSpPr/>
            <p:nvPr/>
          </p:nvSpPr>
          <p:spPr>
            <a:xfrm>
              <a:off x="2057400" y="28195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ブラックホールからの紫外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752480" y="3352680"/>
              <a:ext cx="518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0948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紫外光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に対して、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赤外線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の方が遅れて到着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638680" y="685800"/>
            <a:ext cx="2895840" cy="4800600"/>
            <a:chOff x="5638680" y="685800"/>
            <a:chExt cx="2895840" cy="4800600"/>
          </a:xfrm>
        </p:grpSpPr>
        <p:sp>
          <p:nvSpPr>
            <p:cNvPr id="126" name=""/>
            <p:cNvSpPr/>
            <p:nvPr/>
          </p:nvSpPr>
          <p:spPr>
            <a:xfrm>
              <a:off x="6705720" y="2133720"/>
              <a:ext cx="60948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05720" y="3809880"/>
              <a:ext cx="609480" cy="60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15000" y="137160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8000"/>
                  </a:solidFill>
                  <a:latin typeface="Times New Roman"/>
                </a:rPr>
                <a:t>チリのドーナ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47242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8000"/>
                  </a:solidFill>
                  <a:latin typeface="Times New Roman"/>
                </a:rPr>
                <a:t>チリのドーナ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62160" y="2209680"/>
              <a:ext cx="911880" cy="22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imes New Roman"/>
                </a:rPr>
                <a:t>ブラックホー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010280" y="320040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10280" y="4191120"/>
              <a:ext cx="228600" cy="53316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7086600" y="1828800"/>
              <a:ext cx="380880" cy="45720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00840" y="32004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38680" y="685800"/>
              <a:ext cx="2819520" cy="480060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7280" y="68580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9900"/>
                  </a:solidFill>
                  <a:latin typeface="Times New Roman"/>
                </a:rPr>
                <a:t>活動銀河中心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7315200" y="3352680"/>
              <a:ext cx="457200" cy="685800"/>
              <a:chOff x="7315200" y="3352680"/>
              <a:chExt cx="457200" cy="685800"/>
            </a:xfrm>
          </p:grpSpPr>
          <p:sp>
            <p:nvSpPr>
              <p:cNvPr id="138" name=""/>
              <p:cNvSpPr/>
              <p:nvPr/>
            </p:nvSpPr>
            <p:spPr>
              <a:xfrm>
                <a:off x="7315200" y="3352680"/>
                <a:ext cx="0" cy="6858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391520" y="34290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" name=""/>
          <p:cNvSpPr/>
          <p:nvPr/>
        </p:nvSpPr>
        <p:spPr>
          <a:xfrm>
            <a:off x="609480" y="4648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ja-JP" sz="2400" spc="-1" strike="noStrike">
                <a:solidFill>
                  <a:srgbClr val="ff00ff"/>
                </a:solidFill>
                <a:latin typeface="Times New Roman"/>
              </a:rPr>
              <a:t>ドーナツの半径</a:t>
            </a:r>
            <a:r>
              <a:rPr b="1" lang="ja-JP" sz="2400" spc="-1" strike="noStrike">
                <a:solidFill>
                  <a:srgbClr val="ff00ff"/>
                </a:solidFill>
                <a:latin typeface="Times New Roman"/>
              </a:rPr>
              <a:t>r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と中心光度の間には密接な関係があり、中心光度を計算することができ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752120" y="3429000"/>
            <a:ext cx="5258160" cy="612000"/>
            <a:chOff x="1752120" y="3429000"/>
            <a:chExt cx="5258160" cy="612000"/>
          </a:xfrm>
        </p:grpSpPr>
        <p:sp>
          <p:nvSpPr>
            <p:cNvPr id="142" name=""/>
            <p:cNvSpPr/>
            <p:nvPr/>
          </p:nvSpPr>
          <p:spPr>
            <a:xfrm>
              <a:off x="2209680" y="358128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3300"/>
                  </a:solidFill>
                  <a:latin typeface="Times New Roman"/>
                </a:rPr>
                <a:t>ドーナツ経由の赤外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10280" y="342900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752120" y="4038480"/>
              <a:ext cx="52578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838080" y="1676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ff00ff"/>
                </a:solidFill>
                <a:latin typeface="Times New Roman"/>
              </a:rPr>
              <a:t>ドーナツ半径</a:t>
            </a:r>
            <a:r>
              <a:rPr b="1" lang="ja-JP" sz="2400" spc="-1" strike="noStrike">
                <a:solidFill>
                  <a:srgbClr val="ff00ff"/>
                </a:solidFill>
                <a:latin typeface="Times New Roman"/>
              </a:rPr>
              <a:t>r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がわか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59436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</a:t>
            </a: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見かけの中心光度との違いから距離を求め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685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ハッブル定数決定の歴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85800" y="1600200"/>
            <a:ext cx="7543800" cy="3276720"/>
            <a:chOff x="685800" y="1600200"/>
            <a:chExt cx="7543800" cy="3276720"/>
          </a:xfrm>
        </p:grpSpPr>
        <p:pic>
          <p:nvPicPr>
            <p:cNvPr id="149" name="h0_history" descr=""/>
            <p:cNvPicPr/>
            <p:nvPr/>
          </p:nvPicPr>
          <p:blipFill>
            <a:blip r:embed="rId1"/>
            <a:srcRect l="2891" t="3873" r="1647" b="12787"/>
            <a:stretch/>
          </p:blipFill>
          <p:spPr>
            <a:xfrm>
              <a:off x="685800" y="1600200"/>
              <a:ext cx="754380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371600" y="2133720"/>
              <a:ext cx="670572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1600" y="3200400"/>
              <a:ext cx="678168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162920" y="838080"/>
            <a:ext cx="1295280" cy="1295640"/>
            <a:chOff x="7162920" y="838080"/>
            <a:chExt cx="1295280" cy="1295640"/>
          </a:xfrm>
        </p:grpSpPr>
        <p:sp>
          <p:nvSpPr>
            <p:cNvPr id="153" name=""/>
            <p:cNvSpPr/>
            <p:nvPr/>
          </p:nvSpPr>
          <p:spPr>
            <a:xfrm>
              <a:off x="7924680" y="1295280"/>
              <a:ext cx="152640" cy="838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2920" y="8380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100</a:t>
              </a:r>
              <a:r>
                <a:rPr b="1" lang="ja-JP" sz="2400" spc="-1" strike="noStrike">
                  <a:solidFill>
                    <a:srgbClr val="0000ff"/>
                  </a:solidFill>
                  <a:latin typeface="Times New Roman"/>
                </a:rPr>
                <a:t>億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934320" y="3200040"/>
            <a:ext cx="1295280" cy="2365200"/>
            <a:chOff x="6934320" y="3200040"/>
            <a:chExt cx="1295280" cy="2365200"/>
          </a:xfrm>
        </p:grpSpPr>
        <p:sp>
          <p:nvSpPr>
            <p:cNvPr id="156" name=""/>
            <p:cNvSpPr/>
            <p:nvPr/>
          </p:nvSpPr>
          <p:spPr>
            <a:xfrm flipV="1">
              <a:off x="7543800" y="3200040"/>
              <a:ext cx="533520" cy="1981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34320" y="5105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ff"/>
                  </a:solidFill>
                  <a:latin typeface="Times New Roman"/>
                </a:rPr>
                <a:t>200</a:t>
              </a:r>
              <a:r>
                <a:rPr b="0" lang="ja-JP" sz="2400" spc="-1" strike="noStrike">
                  <a:solidFill>
                    <a:srgbClr val="0000ff"/>
                  </a:solidFill>
                  <a:latin typeface="Times New Roman"/>
                </a:rPr>
                <a:t>億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8580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3300"/>
                </a:solidFill>
                <a:latin typeface="Times New Roman"/>
              </a:rPr>
              <a:t>系外銀河までの距離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を精密に測定することが最重要事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0T12:20:33Z</dcterms:created>
  <dc:creator>nishiura</dc:creator>
  <dc:description/>
  <dc:language>en-US</dc:language>
  <cp:lastModifiedBy>nishiura</cp:lastModifiedBy>
  <dcterms:modified xsi:type="dcterms:W3CDTF">2003-08-11T03:48:11Z</dcterms:modified>
  <cp:revision>36</cp:revision>
  <dc:subject/>
  <dc:title>PowerPoint プレゼンテーション</dc:title>
</cp:coreProperties>
</file>