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673-7F0C-4AA4-AFD3-FB3A89EA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813-85F8-47B5-AC07-A5270C24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A1C-BA7E-4428-9FCD-3F192CC9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AF8-70AD-495E-9019-0EB042EF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994-803A-469E-9368-A32E001F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531-9EBF-4F16-8A3F-F443D615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372-2F04-4E42-AEA2-8129B769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041-3B58-4592-A8E5-FF9F733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9A4-87DA-440E-BD5D-EAEA609B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9AC-B074-468B-A705-3180A33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129-4DB8-4AE5-8A49-783FFCC1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0C4-9883-455C-8978-CDDA350E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0A80-D710-4EFB-A82D-C966B76D4A4D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523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Galaxies   and   Black Ho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9900"/>
                </a:solidFill>
                <a:latin typeface="Times New Roman"/>
              </a:rPr>
              <a:t>東京大学木曽観測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9900"/>
                </a:solidFill>
                <a:latin typeface="Times New Roman"/>
              </a:rPr>
              <a:t>研究機関研究員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ja-JP" sz="2400" spc="-1" strike="noStrike">
                <a:solidFill>
                  <a:srgbClr val="00ffff"/>
                </a:solidFill>
                <a:latin typeface="Times New Roman"/>
              </a:rPr>
              <a:t>西浦 慎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2286000"/>
            <a:ext cx="81342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ＭＳ Ｐゴシック"/>
              </a:rPr>
              <a:t>銀河とブラックホール</a:t>
            </a:r>
            <a:endParaRPr b="1" i="1" lang="en-US" sz="7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h_cenA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3843360" cy="2390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19320" y="5791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6600"/>
                </a:solidFill>
                <a:latin typeface="Times New Roman"/>
              </a:rPr>
              <a:t>電波銀河 </a:t>
            </a:r>
            <a:r>
              <a:rPr b="1" lang="ja-JP" sz="3200" spc="-1" strike="noStrike">
                <a:solidFill>
                  <a:srgbClr val="ff6600"/>
                </a:solidFill>
                <a:latin typeface="Times New Roman"/>
              </a:rPr>
              <a:t>Cen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h_cygnusA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2494080" cy="2522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91320" y="56386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6600"/>
                </a:solidFill>
                <a:latin typeface="Times New Roman"/>
              </a:rPr>
              <a:t>電波銀河</a:t>
            </a:r>
            <a:r>
              <a:rPr b="1" lang="ja-JP" sz="3200" spc="-1" strike="noStrike">
                <a:solidFill>
                  <a:srgbClr val="ff6600"/>
                </a:solidFill>
                <a:latin typeface="Times New Roman"/>
              </a:rPr>
              <a:t>Cygnu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80880"/>
            <a:ext cx="56390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活動銀河中心核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371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非常に強力な</a:t>
            </a:r>
            <a:r>
              <a:rPr b="1" lang="ja-JP" sz="2400" spc="-1" strike="noStrike">
                <a:solidFill>
                  <a:srgbClr val="ff66ff"/>
                </a:solidFill>
                <a:latin typeface="Times New Roman"/>
              </a:rPr>
              <a:t>電波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や</a:t>
            </a:r>
            <a:r>
              <a:rPr b="1" lang="ja-JP" sz="2400" spc="-1" strike="noStrike">
                <a:solidFill>
                  <a:srgbClr val="ff66ff"/>
                </a:solidFill>
                <a:latin typeface="Times New Roman"/>
              </a:rPr>
              <a:t>Ｘ線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を中心の</a:t>
            </a: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わずか数光年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という領域から放射している銀河。その中心部分は</a:t>
            </a:r>
            <a:r>
              <a:rPr b="1" lang="ja-JP" sz="2400" spc="-1" strike="noStrike">
                <a:solidFill>
                  <a:srgbClr val="00ffff"/>
                </a:solidFill>
                <a:latin typeface="Times New Roman"/>
              </a:rPr>
              <a:t>活動銀河中心核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(Active Galactic Nuclei=</a:t>
            </a:r>
            <a:r>
              <a:rPr b="1" lang="ja-JP" sz="2400" spc="-1" strike="noStrike">
                <a:solidFill>
                  <a:srgbClr val="00ffff"/>
                </a:solidFill>
                <a:latin typeface="Times New Roman"/>
              </a:rPr>
              <a:t>AGN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と呼ばれる。この活動性には</a:t>
            </a:r>
            <a:r>
              <a:rPr b="1" i="1" lang="ja-JP" sz="2400" spc="-1" strike="noStrike">
                <a:solidFill>
                  <a:srgbClr val="ff0000"/>
                </a:solidFill>
                <a:latin typeface="Times New Roman"/>
              </a:rPr>
              <a:t>ブラックホール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が関係しているとい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ブラックホール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0574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Times New Roman"/>
              </a:rPr>
              <a:t>密度が非常に高い、単なる星です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90920" y="1295280"/>
            <a:ext cx="6172200" cy="4597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太陽の８倍より質量の大きい恒星の最後の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37360" y="1905120"/>
            <a:ext cx="312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中心部分が超高温（</a:t>
            </a: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億度）になる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中心部分が重力崩壊し、大爆発をおこ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380880" y="1523880"/>
            <a:ext cx="3809520" cy="3809880"/>
            <a:chOff x="-380880" y="1523880"/>
            <a:chExt cx="3809520" cy="3809880"/>
          </a:xfrm>
        </p:grpSpPr>
        <p:sp>
          <p:nvSpPr>
            <p:cNvPr id="140" name=""/>
            <p:cNvSpPr/>
            <p:nvPr/>
          </p:nvSpPr>
          <p:spPr>
            <a:xfrm>
              <a:off x="-380880" y="1523880"/>
              <a:ext cx="3809520" cy="380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720" y="1974960"/>
              <a:ext cx="2758320" cy="29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080" y="2147760"/>
              <a:ext cx="2361600" cy="25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808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6520" y="2320920"/>
              <a:ext cx="2034720" cy="221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cc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8240" y="2624040"/>
              <a:ext cx="1510920" cy="158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8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8089"/>
                </a:path>
              </a:pathLst>
            </a:custGeom>
            <a:solidFill>
              <a:srgbClr val="00ff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32120" y="2909880"/>
              <a:ext cx="98352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7219"/>
                </a:path>
              </a:pathLst>
            </a:custGeom>
            <a:solidFill>
              <a:srgbClr val="00808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60720" y="3151080"/>
              <a:ext cx="526320" cy="55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1800000">
            <a:off x="837720" y="1905120"/>
            <a:ext cx="1905120" cy="205740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63160" y="25146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</a:rPr>
              <a:t>超新星爆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65800" y="320040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外層は吹き飛ばされ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核は中性子星かブラックホールにな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1920" y="3962520"/>
            <a:ext cx="5701680" cy="1191240"/>
          </a:xfrm>
          <a:prstGeom prst="rect">
            <a:avLst/>
          </a:prstGeom>
          <a:noFill/>
          <a:ln w="507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6600"/>
                </a:solidFill>
                <a:latin typeface="Times New Roman"/>
              </a:rPr>
              <a:t>中性子星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　　全体が原子核的な状態になった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密度は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億トン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/cm3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→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角砂糖大で富士山と同じ重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63160" y="5334120"/>
            <a:ext cx="5362200" cy="119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ブラックホール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　　中性子星状態でも星を支えきれず、重力的につぶれた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　　非常に強い重力により、光すら脱出できな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ブラックホール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ブラックホール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523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1930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年代末 </a:t>
            </a:r>
            <a:r>
              <a:rPr b="1" lang="ja-JP" sz="2800" spc="-1" strike="noStrike">
                <a:solidFill>
                  <a:srgbClr val="00ff00"/>
                </a:solidFill>
                <a:latin typeface="Times New Roman"/>
              </a:rPr>
              <a:t>オッペンハイマー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が</a:t>
            </a:r>
            <a:r>
              <a:rPr b="1" lang="ja-JP" sz="2800" spc="-1" strike="noStrike">
                <a:solidFill>
                  <a:srgbClr val="ff66ff"/>
                </a:solidFill>
                <a:latin typeface="Times New Roman"/>
              </a:rPr>
              <a:t>「重い星の最後の姿」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として理論的に予言し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743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1969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年頃、</a:t>
            </a:r>
            <a:r>
              <a:rPr b="1" lang="ja-JP" sz="2800" spc="-1" strike="noStrike">
                <a:solidFill>
                  <a:srgbClr val="00ff00"/>
                </a:solidFill>
                <a:latin typeface="Times New Roman"/>
              </a:rPr>
              <a:t>ホイーラー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が</a:t>
            </a:r>
            <a:r>
              <a:rPr b="1" lang="ja-JP" sz="2800" spc="-1" strike="noStrike">
                <a:solidFill>
                  <a:srgbClr val="00ffff"/>
                </a:solidFill>
                <a:latin typeface="Times New Roman"/>
              </a:rPr>
              <a:t>「ブラックホール」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と呼び始めた。そしてブラックホールの性質は</a:t>
            </a:r>
            <a:r>
              <a:rPr b="1" lang="ja-JP" sz="2800" spc="-1" strike="noStrike">
                <a:solidFill>
                  <a:srgbClr val="ff66ff"/>
                </a:solidFill>
                <a:latin typeface="Times New Roman"/>
              </a:rPr>
              <a:t>質量、角運動量、電荷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の３つだけで決まることを示し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343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どんな電磁波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Ｘ線、紫外線、光、赤外線、電波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も外へ逃がさない超高密度天体…それがブラックホール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5715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しかしそれは長い間、理論上の産物に過ぎなかった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ブラックホール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752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ボウヤーの研究グループ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が</a:t>
            </a:r>
            <a:r>
              <a:rPr b="1" lang="ja-JP" sz="2400" spc="-1" strike="noStrike">
                <a:solidFill>
                  <a:srgbClr val="ff66ff"/>
                </a:solidFill>
                <a:latin typeface="Times New Roman"/>
              </a:rPr>
              <a:t>白鳥座</a:t>
            </a:r>
            <a:r>
              <a:rPr b="1" lang="ja-JP" sz="2400" spc="-1" strike="noStrike">
                <a:solidFill>
                  <a:srgbClr val="ff66ff"/>
                </a:solidFill>
                <a:latin typeface="Times New Roman"/>
              </a:rPr>
              <a:t>X-1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が強力な</a:t>
            </a:r>
            <a:r>
              <a:rPr b="1" lang="ja-JP" sz="2400" spc="-1" strike="noStrike">
                <a:solidFill>
                  <a:srgbClr val="00ffff"/>
                </a:solidFill>
                <a:latin typeface="Times New Roman"/>
              </a:rPr>
              <a:t>Ｘ線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を放射していることを発見す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１９６５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Times New Roman"/>
              </a:rPr>
              <a:t>何故Ｘ線を出す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09680" y="2819520"/>
            <a:ext cx="3353040" cy="1191960"/>
            <a:chOff x="2209680" y="2819520"/>
            <a:chExt cx="3353040" cy="1191960"/>
          </a:xfrm>
        </p:grpSpPr>
        <p:pic>
          <p:nvPicPr>
            <p:cNvPr id="163" name="Xcygx1" descr=""/>
            <p:cNvPicPr/>
            <p:nvPr/>
          </p:nvPicPr>
          <p:blipFill>
            <a:blip r:embed="rId1"/>
            <a:stretch/>
          </p:blipFill>
          <p:spPr>
            <a:xfrm>
              <a:off x="2209680" y="2819520"/>
              <a:ext cx="1524240" cy="11919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164" name=""/>
            <p:cNvSpPr/>
            <p:nvPr/>
          </p:nvSpPr>
          <p:spPr>
            <a:xfrm>
              <a:off x="3886200" y="28195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66ff"/>
                  </a:solidFill>
                  <a:latin typeface="Times New Roman"/>
                </a:rPr>
                <a:t>白鳥座Ｘ</a:t>
              </a:r>
              <a:r>
                <a:rPr b="1" lang="ja-JP" sz="2400" spc="-1" strike="noStrike">
                  <a:solidFill>
                    <a:srgbClr val="ff66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066680" y="4191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中性子星か？ しかしＸ線を放射する天体の質量は太陽の１０数倍以上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5867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中性子星ではあり得ない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502920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2667240" y="2133720"/>
            <a:ext cx="4231440" cy="2286720"/>
            <a:chOff x="2667240" y="2133720"/>
            <a:chExt cx="4231440" cy="2286720"/>
          </a:xfrm>
        </p:grpSpPr>
        <p:sp>
          <p:nvSpPr>
            <p:cNvPr id="169" name=""/>
            <p:cNvSpPr/>
            <p:nvPr/>
          </p:nvSpPr>
          <p:spPr>
            <a:xfrm rot="5400000">
              <a:off x="4039560" y="2590920"/>
              <a:ext cx="1486440" cy="1944000"/>
            </a:xfrm>
            <a:custGeom>
              <a:avLst/>
              <a:gdLst>
                <a:gd name="textAreaLeft" fmla="*/ 451440 w 1486440"/>
                <a:gd name="textAreaRight" fmla="*/ 1035000 w 1486440"/>
                <a:gd name="textAreaTop" fmla="*/ 590400 h 1944000"/>
                <a:gd name="textAreaBottom" fmla="*/ 1353600 h 19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38" y="21600"/>
                  </a:lnTo>
                  <a:lnTo>
                    <a:pt x="866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3280" y="2705040"/>
              <a:ext cx="1715400" cy="171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7240" y="3391560"/>
              <a:ext cx="1829880" cy="80064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3400" y="3620160"/>
              <a:ext cx="228960" cy="22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696480" y="2704680"/>
              <a:ext cx="343080" cy="91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2895840" y="2704680"/>
              <a:ext cx="343080" cy="91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64080" y="2133720"/>
              <a:ext cx="75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高エネルギー光子、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線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ブラックホール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523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白鳥座Ｘ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１は巨星とブラックホールの連星だった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495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ja-JP" sz="2800" spc="-1" strike="noStrike">
                <a:solidFill>
                  <a:srgbClr val="ffff00"/>
                </a:solidFill>
                <a:latin typeface="Times New Roman"/>
              </a:rPr>
              <a:t>ブラックホールがＸ線を出しているのではなく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、巨星からの大量の物質がブラックホールに流れ込むことによって、</a:t>
            </a:r>
            <a:r>
              <a:rPr b="0" lang="ja-JP" sz="2800" spc="-1" strike="noStrike">
                <a:solidFill>
                  <a:srgbClr val="ff66ff"/>
                </a:solidFill>
                <a:latin typeface="Times New Roman"/>
              </a:rPr>
              <a:t>ブラックホールの表面ギリギリのところでＸ線が発生していた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の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ブラックホール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7524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66ff"/>
                </a:solidFill>
                <a:latin typeface="Times New Roman"/>
              </a:rPr>
              <a:t>連星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になっているブラックホールならＸ線で発見でき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6668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ff00"/>
                </a:solidFill>
                <a:latin typeface="Times New Roman"/>
              </a:rPr>
              <a:t>単体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で存在するブラックホールを発見する方法はな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3276720"/>
            <a:ext cx="0" cy="990360"/>
          </a:xfrm>
          <a:prstGeom prst="line">
            <a:avLst/>
          </a:prstGeom>
          <a:ln w="3492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4495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連星になっている中性子星</a:t>
            </a:r>
            <a:r>
              <a:rPr b="1" lang="ja-JP" sz="2400" spc="-1" strike="noStrike">
                <a:solidFill>
                  <a:srgbClr val="ffff00"/>
                </a:solidFill>
                <a:latin typeface="Times New Roman"/>
              </a:rPr>
              <a:t>が合体してブラックホールになる場合には、</a:t>
            </a:r>
            <a:r>
              <a:rPr b="1" lang="ja-JP" sz="2400" spc="-1" strike="noStrike">
                <a:solidFill>
                  <a:srgbClr val="00ffff"/>
                </a:solidFill>
                <a:latin typeface="Times New Roman"/>
              </a:rPr>
              <a:t>重力波</a:t>
            </a:r>
            <a:r>
              <a:rPr b="1" lang="ja-JP" sz="2400" spc="-1" strike="noStrike">
                <a:solidFill>
                  <a:srgbClr val="ffff00"/>
                </a:solidFill>
                <a:latin typeface="Times New Roman"/>
              </a:rPr>
              <a:t>で見つかるかも知れな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05120" y="380880"/>
            <a:ext cx="548640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超大質量ブラックホール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6765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この宇宙には太陽質量の</a:t>
            </a:r>
            <a:r>
              <a:rPr b="1" lang="ja-JP" sz="2800" spc="-1" strike="noStrike">
                <a:solidFill>
                  <a:srgbClr val="ffff00"/>
                </a:solidFill>
                <a:latin typeface="Times New Roman"/>
              </a:rPr>
              <a:t>１億倍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もの</a:t>
            </a:r>
            <a:r>
              <a:rPr b="1" lang="ja-JP" sz="2800" spc="-1" strike="noStrike">
                <a:solidFill>
                  <a:srgbClr val="00ff00"/>
                </a:solidFill>
                <a:latin typeface="Times New Roman"/>
              </a:rPr>
              <a:t>超大質量ブラックホール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がごろごろしている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2743200"/>
            <a:ext cx="1676520" cy="1358640"/>
            <a:chOff x="3657600" y="2743200"/>
            <a:chExt cx="1676520" cy="1358640"/>
          </a:xfrm>
        </p:grpSpPr>
        <p:sp>
          <p:nvSpPr>
            <p:cNvPr id="187" name=""/>
            <p:cNvSpPr/>
            <p:nvPr/>
          </p:nvSpPr>
          <p:spPr>
            <a:xfrm>
              <a:off x="4419720" y="2743200"/>
              <a:ext cx="0" cy="838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57600" y="35812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ffff"/>
                  </a:solidFill>
                  <a:latin typeface="Times New Roman"/>
                </a:rPr>
                <a:t>何処に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9" name="bh_cenA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3843360" cy="23907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4419360" y="2286000"/>
            <a:ext cx="4343760" cy="3124080"/>
            <a:chOff x="4419360" y="2286000"/>
            <a:chExt cx="4343760" cy="3124080"/>
          </a:xfrm>
        </p:grpSpPr>
        <p:sp>
          <p:nvSpPr>
            <p:cNvPr id="191" name=""/>
            <p:cNvSpPr/>
            <p:nvPr/>
          </p:nvSpPr>
          <p:spPr>
            <a:xfrm flipH="1">
              <a:off x="4419360" y="3581280"/>
              <a:ext cx="1523880" cy="1828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38680" y="2286000"/>
              <a:ext cx="3124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0" spc="-1" strike="noStrike">
                  <a:solidFill>
                    <a:srgbClr val="ff0000"/>
                  </a:solidFill>
                  <a:latin typeface="Times New Roman"/>
                </a:rPr>
                <a:t>ここに</a:t>
              </a:r>
              <a:r>
                <a:rPr b="0" lang="ja-JP" sz="96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hh_object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428920" cy="3417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05120" y="380880"/>
            <a:ext cx="548640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超大質量ブラックホール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　ブラックホールに物質が落ち込むときに</a:t>
            </a: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円盤状の構造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降着円盤 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アクリーション・ディスク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をつくり、中心から</a:t>
            </a: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ジェット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を吹き出す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3124080"/>
            <a:ext cx="144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降着円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17524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ジェッ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3124080"/>
            <a:ext cx="762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bh_ngc4261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530680" cy="3027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90920" y="4267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Times New Roman"/>
              </a:rPr>
              <a:t>NGC4261 (HST</a:t>
            </a:r>
            <a:r>
              <a:rPr b="1" lang="ja-JP" sz="3200" spc="-1" strike="noStrike">
                <a:solidFill>
                  <a:srgbClr val="ffffff"/>
                </a:solidFill>
                <a:latin typeface="Times New Roman"/>
              </a:rPr>
              <a:t>で撮影</a:t>
            </a:r>
            <a:r>
              <a:rPr b="1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5029200"/>
            <a:ext cx="7772400" cy="100800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電波銀河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や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クエーサー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といった激しい活動性を示す銀河の中心には太陽質量の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１０００万から１０億倍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のブラックホールがあると考えられ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380880"/>
            <a:ext cx="548640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超大質量ブラックホール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ilkyway_poster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129360" cy="409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380880"/>
            <a:ext cx="67820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天の川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= Milky Way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4100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ガリレオ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「天の川」が無数の星の集まりであることを　　　　　　発見した 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(16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世紀後半～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17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世紀前半頃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352680" y="380880"/>
            <a:ext cx="22100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最後に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295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　　ここ数年の天文学の発展は目覚しい。今この瞬間にも新しいことが判っていると言っても過言ではな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2860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しかしブラックホールはおろか、太陽系のことでさえ、まだ完全に判った訳ではな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ad_blr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3660480" cy="3232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343400" y="380988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ffff00"/>
                </a:solidFill>
                <a:latin typeface="Times New Roman"/>
              </a:rPr>
              <a:t>活動銀河中心核付近の想像図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46483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降着円盤</a:t>
            </a:r>
            <a:r>
              <a:rPr b="1" lang="ja-JP" sz="2400" spc="-1" strike="noStrike">
                <a:solidFill>
                  <a:srgbClr val="00ff00"/>
                </a:solidFill>
                <a:latin typeface="Times New Roman"/>
              </a:rPr>
              <a:t>は決して平らな円盤ではなく、外側にいくほど歪んでいるらし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380880"/>
            <a:ext cx="67820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天の川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= Milky Way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181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ハーシェル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太陽は宇宙の中心であり、宇宙は扁平な   　　　　　　　形をしている 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(18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世紀前半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milkyway_herschel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3000" cy="2919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4572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ハーシェルの宇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190760" y="4343400"/>
            <a:ext cx="533160" cy="4572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380880"/>
            <a:ext cx="67820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天の川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= Milky Way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シャプレー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太陽は宇宙の端にある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(18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世紀前半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solar_gal_poster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77000" cy="2819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9680" y="5105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「天の川銀河」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銀河系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の発見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791320"/>
            <a:ext cx="67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「天の川銀河」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約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億個の恒星の集ま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380880"/>
            <a:ext cx="67820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天の川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= Milky Way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solar_gal_poster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6941880" cy="254952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60" name="milkyway_poster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286080" cy="219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7162920" y="4572000"/>
            <a:ext cx="685800" cy="8380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866920" y="4266720"/>
            <a:ext cx="1295640" cy="114300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09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9933"/>
                </a:solidFill>
                <a:latin typeface="Times New Roman"/>
              </a:rPr>
              <a:t>星の数多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038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9933"/>
                </a:solidFill>
                <a:latin typeface="Times New Roman"/>
              </a:rPr>
              <a:t>星の数少な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19160" y="2666520"/>
            <a:ext cx="2514600" cy="1219320"/>
          </a:xfrm>
          <a:prstGeom prst="line">
            <a:avLst/>
          </a:prstGeom>
          <a:ln w="7632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123720" y="1905120"/>
            <a:ext cx="4038840" cy="2209680"/>
          </a:xfrm>
          <a:prstGeom prst="line">
            <a:avLst/>
          </a:prstGeom>
          <a:ln w="7632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14479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天の川とは銀河を横から見た姿なのだ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380880"/>
            <a:ext cx="67820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天の川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= Milky Way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572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カーチス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渦巻星雲は「天の川銀河」の外にある　　　　　　　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(20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世紀前半</a:t>
            </a: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「系外銀河」の発見</a:t>
            </a: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m31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3556080" cy="2503440"/>
          </a:xfrm>
          <a:prstGeom prst="rect">
            <a:avLst/>
          </a:prstGeom>
          <a:ln w="0">
            <a:noFill/>
          </a:ln>
        </p:spPr>
      </p:pic>
      <p:pic>
        <p:nvPicPr>
          <p:cNvPr id="72" name="N6946VRI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447640" cy="2409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71600" y="3886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アンドロメダ星雲</a:t>
            </a: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(M3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694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43200" y="380880"/>
            <a:ext cx="342900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銀河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solar_gal_poster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627440" cy="1698840"/>
          </a:xfrm>
          <a:prstGeom prst="rect">
            <a:avLst/>
          </a:prstGeom>
          <a:ln w="0">
            <a:noFill/>
          </a:ln>
        </p:spPr>
      </p:pic>
      <p:pic>
        <p:nvPicPr>
          <p:cNvPr id="77" name="batou_seiun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146520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N7293_BVR" descr=""/>
          <p:cNvPicPr/>
          <p:nvPr/>
        </p:nvPicPr>
        <p:blipFill>
          <a:blip r:embed="rId3"/>
          <a:stretch/>
        </p:blipFill>
        <p:spPr>
          <a:xfrm>
            <a:off x="4800600" y="1219320"/>
            <a:ext cx="1460520" cy="1331640"/>
          </a:xfrm>
          <a:prstGeom prst="rect">
            <a:avLst/>
          </a:prstGeom>
          <a:ln w="0">
            <a:noFill/>
          </a:ln>
        </p:spPr>
      </p:pic>
      <p:pic>
        <p:nvPicPr>
          <p:cNvPr id="79" name="M15BVR" descr=""/>
          <p:cNvPicPr/>
          <p:nvPr/>
        </p:nvPicPr>
        <p:blipFill>
          <a:blip r:embed="rId4"/>
          <a:stretch/>
        </p:blipFill>
        <p:spPr>
          <a:xfrm>
            <a:off x="6324480" y="5257800"/>
            <a:ext cx="1474920" cy="1409760"/>
          </a:xfrm>
          <a:prstGeom prst="rect">
            <a:avLst/>
          </a:prstGeom>
          <a:ln w="0">
            <a:noFill/>
          </a:ln>
        </p:spPr>
      </p:pic>
      <p:pic>
        <p:nvPicPr>
          <p:cNvPr id="80" name="subaru_M45" descr=""/>
          <p:cNvPicPr/>
          <p:nvPr/>
        </p:nvPicPr>
        <p:blipFill>
          <a:blip r:embed="rId5"/>
          <a:stretch/>
        </p:blipFill>
        <p:spPr>
          <a:xfrm>
            <a:off x="7086600" y="457200"/>
            <a:ext cx="1465200" cy="2050920"/>
          </a:xfrm>
          <a:prstGeom prst="rect">
            <a:avLst/>
          </a:prstGeom>
          <a:ln w="0">
            <a:noFill/>
          </a:ln>
        </p:spPr>
      </p:pic>
      <p:pic>
        <p:nvPicPr>
          <p:cNvPr id="81" name="moujo_seiun" descr=""/>
          <p:cNvPicPr/>
          <p:nvPr/>
        </p:nvPicPr>
        <p:blipFill>
          <a:blip r:embed="rId6"/>
          <a:stretch/>
        </p:blipFill>
        <p:spPr>
          <a:xfrm>
            <a:off x="380880" y="685800"/>
            <a:ext cx="1897200" cy="1351080"/>
          </a:xfrm>
          <a:prstGeom prst="rect">
            <a:avLst/>
          </a:prstGeom>
          <a:ln w="0">
            <a:noFill/>
          </a:ln>
        </p:spPr>
      </p:pic>
      <p:pic>
        <p:nvPicPr>
          <p:cNvPr id="82" name="m42_orion" descr=""/>
          <p:cNvPicPr/>
          <p:nvPr/>
        </p:nvPicPr>
        <p:blipFill>
          <a:blip r:embed="rId7"/>
          <a:stretch/>
        </p:blipFill>
        <p:spPr>
          <a:xfrm>
            <a:off x="7620120" y="3124080"/>
            <a:ext cx="131292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0" y="685800"/>
            <a:ext cx="2819520" cy="25909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057400"/>
            <a:ext cx="2819520" cy="1219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2514600"/>
            <a:ext cx="68580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86040" y="2514600"/>
            <a:ext cx="76212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715000" y="2438280"/>
            <a:ext cx="1371600" cy="9144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715000" y="2514600"/>
            <a:ext cx="2819520" cy="8380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172200" y="3124080"/>
            <a:ext cx="1447920" cy="4572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172200" y="3581280"/>
            <a:ext cx="1447920" cy="14479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324480" y="4114440"/>
            <a:ext cx="0" cy="1143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324480" y="4114440"/>
            <a:ext cx="1447920" cy="1143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2209680"/>
            <a:ext cx="3352680" cy="12193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05120" y="3429000"/>
            <a:ext cx="3429000" cy="9144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N7331_grp" descr=""/>
          <p:cNvPicPr/>
          <p:nvPr/>
        </p:nvPicPr>
        <p:blipFill>
          <a:blip r:embed="rId8"/>
          <a:stretch/>
        </p:blipFill>
        <p:spPr>
          <a:xfrm>
            <a:off x="914400" y="5105520"/>
            <a:ext cx="1187280" cy="1326960"/>
          </a:xfrm>
          <a:prstGeom prst="rect">
            <a:avLst/>
          </a:prstGeom>
          <a:ln w="0">
            <a:noFill/>
          </a:ln>
        </p:spPr>
      </p:pic>
      <p:pic>
        <p:nvPicPr>
          <p:cNvPr id="96" name="m31" descr=""/>
          <p:cNvPicPr/>
          <p:nvPr/>
        </p:nvPicPr>
        <p:blipFill>
          <a:blip r:embed="rId9"/>
          <a:stretch/>
        </p:blipFill>
        <p:spPr>
          <a:xfrm>
            <a:off x="2438280" y="5334120"/>
            <a:ext cx="1420920" cy="1000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609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ccff"/>
                </a:solidFill>
                <a:latin typeface="Times New Roman"/>
              </a:rPr>
              <a:t>超新星残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ff00"/>
                </a:solidFill>
                <a:latin typeface="Times New Roman"/>
              </a:rPr>
              <a:t>惑星状星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457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66ff"/>
                </a:solidFill>
                <a:latin typeface="Times New Roman"/>
              </a:rPr>
              <a:t>散開星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6483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00"/>
                </a:solidFill>
                <a:latin typeface="Times New Roman"/>
              </a:rPr>
              <a:t>散光星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6172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66ff"/>
                </a:solidFill>
                <a:latin typeface="Times New Roman"/>
              </a:rPr>
              <a:t>球状星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886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00"/>
                </a:solidFill>
                <a:latin typeface="Times New Roman"/>
              </a:rPr>
              <a:t>暗黒星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N6946VRI" descr=""/>
          <p:cNvPicPr/>
          <p:nvPr/>
        </p:nvPicPr>
        <p:blipFill>
          <a:blip r:embed="rId10"/>
          <a:stretch/>
        </p:blipFill>
        <p:spPr>
          <a:xfrm>
            <a:off x="4038480" y="5181480"/>
            <a:ext cx="1224000" cy="12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480" y="4495680"/>
            <a:ext cx="4876920" cy="213372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4572000"/>
            <a:ext cx="167652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ccccff"/>
                </a:solidFill>
                <a:latin typeface="Times New Roman"/>
              </a:rPr>
              <a:t>系外銀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N6946VRI_poster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2178000" cy="1874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2940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Times New Roman"/>
              </a:rPr>
              <a:t>孤立銀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5715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NGC694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avo_poster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2633400" cy="2334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1295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00"/>
                </a:solidFill>
                <a:latin typeface="Times New Roman"/>
              </a:rPr>
              <a:t>銀 河 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267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くじゃく座銀河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H92R_kiso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130480" cy="199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86200" y="2362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336600"/>
                </a:solidFill>
                <a:latin typeface="Times New Roman"/>
              </a:rPr>
              <a:t>銀 河 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4952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6600"/>
                </a:solidFill>
                <a:latin typeface="Times New Roman"/>
              </a:rPr>
              <a:t>ステファンの五つ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790960" y="2209680"/>
            <a:ext cx="1904760" cy="914400"/>
          </a:xfrm>
          <a:prstGeom prst="line">
            <a:avLst/>
          </a:prstGeom>
          <a:ln w="5076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505320" y="1980720"/>
            <a:ext cx="2286000" cy="228600"/>
          </a:xfrm>
          <a:prstGeom prst="line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1371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66cc"/>
                </a:solidFill>
                <a:latin typeface="Times New Roman"/>
              </a:rPr>
              <a:t>銀河数 </a:t>
            </a:r>
            <a:r>
              <a:rPr b="1" lang="ja-JP" sz="2800" spc="-1" strike="noStrike">
                <a:solidFill>
                  <a:srgbClr val="3366cc"/>
                </a:solidFill>
                <a:latin typeface="Times New Roman"/>
              </a:rPr>
              <a:t>: </a:t>
            </a:r>
            <a:r>
              <a:rPr b="1" lang="ja-JP" sz="2800" spc="-1" strike="noStrike">
                <a:solidFill>
                  <a:srgbClr val="3366cc"/>
                </a:solidFill>
                <a:latin typeface="Times New Roman"/>
              </a:rPr>
              <a:t>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2209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66cc"/>
                </a:solidFill>
                <a:latin typeface="Times New Roman"/>
              </a:rPr>
              <a:t>銀河数 </a:t>
            </a:r>
            <a:r>
              <a:rPr b="1" lang="ja-JP" sz="2800" spc="-1" strike="noStrike">
                <a:solidFill>
                  <a:srgbClr val="3366cc"/>
                </a:solidFill>
                <a:latin typeface="Times New Roman"/>
              </a:rPr>
              <a:t>: </a:t>
            </a:r>
            <a:r>
              <a:rPr b="1" lang="ja-JP" sz="2800" spc="-1" strike="noStrike">
                <a:solidFill>
                  <a:srgbClr val="3366cc"/>
                </a:solidFill>
                <a:latin typeface="Times New Roman"/>
              </a:rPr>
              <a:t>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752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ff00"/>
                </a:solidFill>
                <a:latin typeface="Times New Roman"/>
              </a:rPr>
              <a:t>数密度 ： 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2590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ff00"/>
                </a:solidFill>
                <a:latin typeface="Times New Roman"/>
              </a:rPr>
              <a:t>数密度 ： 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80880"/>
            <a:ext cx="342900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銀河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bh_cenA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43360" cy="2390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3000" y="1219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ffff"/>
                </a:solidFill>
                <a:latin typeface="Times New Roman"/>
              </a:rPr>
              <a:t>電波銀河 </a:t>
            </a:r>
            <a:r>
              <a:rPr b="1" lang="ja-JP" sz="2800" spc="-1" strike="noStrike">
                <a:solidFill>
                  <a:srgbClr val="00ffff"/>
                </a:solidFill>
                <a:latin typeface="Times New Roman"/>
              </a:rPr>
              <a:t>Cen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bh_cygnusA" descr=""/>
          <p:cNvPicPr/>
          <p:nvPr/>
        </p:nvPicPr>
        <p:blipFill>
          <a:blip r:embed="rId2"/>
          <a:stretch/>
        </p:blipFill>
        <p:spPr>
          <a:xfrm>
            <a:off x="5257800" y="4114800"/>
            <a:ext cx="2494080" cy="2522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1219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ffff"/>
                </a:solidFill>
                <a:latin typeface="Times New Roman"/>
              </a:rPr>
              <a:t>電波銀河 </a:t>
            </a:r>
            <a:r>
              <a:rPr b="1" lang="ja-JP" sz="2800" spc="-1" strike="noStrike">
                <a:solidFill>
                  <a:srgbClr val="00ffff"/>
                </a:solidFill>
                <a:latin typeface="Times New Roman"/>
              </a:rPr>
              <a:t>Cygnus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80880"/>
            <a:ext cx="5639040" cy="642600"/>
          </a:xfrm>
          <a:prstGeom prst="rect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cc6600"/>
                </a:solidFill>
                <a:latin typeface="Times New Roman"/>
              </a:rPr>
              <a:t>活動銀河中心核って何だ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en_a_dss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649680" cy="2433600"/>
          </a:xfrm>
          <a:prstGeom prst="rect">
            <a:avLst/>
          </a:prstGeom>
          <a:ln w="0">
            <a:noFill/>
          </a:ln>
        </p:spPr>
      </p:pic>
      <p:pic>
        <p:nvPicPr>
          <p:cNvPr id="128" name="cygnus_A_dss" descr=""/>
          <p:cNvPicPr/>
          <p:nvPr/>
        </p:nvPicPr>
        <p:blipFill>
          <a:blip r:embed="rId4"/>
          <a:srcRect l="17516" t="22361" r="12739" b="10726"/>
          <a:stretch/>
        </p:blipFill>
        <p:spPr>
          <a:xfrm>
            <a:off x="5334120" y="1828800"/>
            <a:ext cx="22748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7:47:42Z</dcterms:created>
  <dc:creator>nishiura</dc:creator>
  <dc:description/>
  <dc:language>en-US</dc:language>
  <cp:lastModifiedBy>nishiura</cp:lastModifiedBy>
  <dcterms:modified xsi:type="dcterms:W3CDTF">2002-01-17T22:33:59Z</dcterms:modified>
  <cp:revision>11</cp:revision>
  <dc:subject/>
  <dc:title>PowerPoint プレゼンテーション</dc:title>
</cp:coreProperties>
</file>